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6.png" ContentType="image/png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.png" ContentType="image/png"/>
  <Override PartName="/ppt/media/image13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7.wmf" ContentType="image/x-wmf"/>
  <Override PartName="/ppt/media/image10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.jpeg" ContentType="image/jpeg"/>
  <Override PartName="/ppt/media/image2.png" ContentType="image/png"/>
  <Override PartName="/ppt/media/image14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63.wmf" ContentType="image/x-wmf"/>
  <Override PartName="/ppt/media/image64.wmf" ContentType="image/x-wmf"/>
  <Override PartName="/ppt/media/image93.wmf" ContentType="image/x-wmf"/>
  <Override PartName="/ppt/media/image28.wmf" ContentType="image/x-wmf"/>
  <Override PartName="/ppt/media/image70.wmf" ContentType="image/x-wmf"/>
  <Override PartName="/ppt/media/image65.wmf" ContentType="image/x-wmf"/>
  <Override PartName="/ppt/media/image94.wmf" ContentType="image/x-wmf"/>
  <Override PartName="/ppt/media/image29.wmf" ContentType="image/x-wmf"/>
  <Override PartName="/ppt/media/image71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72.wmf" ContentType="image/x-wmf"/>
  <Override PartName="/ppt/media/image62.wmf" ContentType="image/x-wmf"/>
  <Override PartName="/ppt/media/image97.wmf" ContentType="image/x-wmf"/>
  <Override PartName="/ppt/media/image73.wmf" ContentType="image/x-wmf"/>
  <Override PartName="/ppt/media/image61.wmf" ContentType="image/x-wmf"/>
  <Override PartName="/ppt/media/image96.wmf" ContentType="image/x-wmf"/>
  <Override PartName="/ppt/media/image95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8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92.wmf" ContentType="image/x-wmf"/>
  <Override PartName="/ppt/media/image27.wmf" ContentType="image/x-wmf"/>
  <Override PartName="/ppt/media/image91.wmf" ContentType="image/x-wmf"/>
  <Override PartName="/ppt/media/image26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60.jpeg" ContentType="image/jpeg"/>
  <Override PartName="/ppt/media/image21.wmf" ContentType="image/x-wmf"/>
  <Override PartName="/ppt/media/image58.wmf" ContentType="image/x-wmf"/>
  <Override PartName="/ppt/media/image17.wmf" ContentType="image/x-wmf"/>
  <Override PartName="/ppt/media/image82.wmf" ContentType="image/x-wmf"/>
  <Override PartName="/ppt/media/image16.png" ContentType="image/png"/>
  <Override PartName="/ppt/media/image56.wmf" ContentType="image/x-wmf"/>
  <Override PartName="/ppt/media/image15.wmf" ContentType="image/x-wmf"/>
  <Override PartName="/ppt/media/image80.wmf" ContentType="image/x-wmf"/>
  <Override PartName="/ppt/media/image1.jpeg" ContentType="image/jpeg"/>
  <Override PartName="/ppt/media/image8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54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6B6C-5062-4891-BD0F-76CE78CFC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9436-E577-4EB1-8F4E-097A479AD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976-4911-4F1B-B4B8-B4676F61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D02-16C8-4BE9-A92E-7C7C786B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EBBA9-947B-467F-9F0D-4B3DECE7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BF3CC-1D02-4F53-9BBA-993F6E55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925EA-D46E-4585-B5AA-F589919A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FBA9B-E1CF-464C-B193-C01EEA26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5A02F-FD2A-496B-A5C3-3D8B553F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5EDDB-CF19-48C6-8CE1-F35F1DB8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071F1-290B-484F-BC1C-FEC7D36A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65B32-2CEB-461E-91EB-B226CD56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66851-E8FB-4F28-ACAC-A5DAB4D3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E33F6-FBC6-4643-B5D6-899B42D7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13B-6717-4E12-BC60-A4469951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40BA6-BCCD-4707-B793-957E998D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1A3A8-D08B-4C39-AA67-3359AA58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F3AFC-6AB0-4982-8CCC-BF0262B8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81DE8-71DA-46A9-9BDE-8735F836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C2022-627A-4945-A855-B0D3F00B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73244-D45C-4C67-81A7-C2E1467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72203-2EF2-4DFC-8384-AB3A98D8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879F3-0978-43B0-B857-A60937A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D3892-11C2-4379-AA98-247F9278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8ACA1-2EC8-42F3-B8B1-9BA733D4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D2B-74DF-4656-BECB-95449EA4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8992B-03BF-4FBB-AAA5-E84BEA07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F6A4A-BCCB-4AB8-8078-1BE0D781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98896-FE83-4DC9-A573-588685F4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7356C-0430-40BB-BAE2-609E0039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E8BBD-C94D-4932-91CE-455A260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2A132-1691-4F2D-9870-03EC1AED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3DA5A-06D3-48C9-8569-C746835E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96FA2-D5F9-4664-A612-4BFEED80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F842A-2D84-43B7-A0B8-FF244AB6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4E76A-718F-4D1D-A987-8C84F32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48DE-2271-4DBA-8781-73C6C479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714F3-DEC3-4757-8431-5EE51109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49E24-246B-4756-9ADA-E870A193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BE25A-FD6B-4F1B-BE43-063984C5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E7525-B068-40F8-A43D-4E56C88E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A2F4F-A391-419B-BADB-7076761D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F8C67-D680-4E68-B774-89E15F68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DDDF7-086A-4DC0-9C3C-16C820D3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F7CF1-7472-44A7-A0A7-FC3F71C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57C16-EE1C-4E6C-A60C-AD295A3A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8A8E5-8DFC-40DF-8CC5-9B7B7A8A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5329-9ED1-4A65-A6F9-9EC3E9D1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07EF3-948E-418A-8B36-FF26C673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D3D69-815B-4E1B-9E8C-FF346309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B304F-D0A4-48AC-B48B-73D0A9FA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CD8D8-A33B-4EFA-8DD4-4EA77D51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41447-E7EF-4278-955B-7C0EA56C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8F4A9-CE0B-4C5E-B326-A2029ABE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51C5A-7752-4C49-B7EA-23CF5CD0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BF664-CE2D-4EEE-BD24-D17B3FD5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5C219-140F-47C9-9AD0-B3D42C4C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B327E-0F88-4447-84AF-D19FEABF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E0B4-FCE0-463C-ADCD-8A5E3C0A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A14B7-447E-4D64-8337-2BA96A2C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B4688-5886-40EC-8A78-8ADAA152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0B2ED-7CD5-42A8-87F5-23E19DD2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6F09F-C1B4-492D-8434-37B8FC42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E786D-09BE-4CE3-B671-7A8E9D3A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1728E-F8F3-486F-8EDE-3A76BEF3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1D291-6DB6-49E2-A0D0-DE27F05B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FAF3A-6A36-424A-B1C9-5D533983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E1E3C-C392-40F2-81A1-5E6E7676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720EC-2A6E-4A41-AB3B-A8C2DC31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D4F5-66A5-4251-B8C8-D59B5AC3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5FF2B-40BD-4C49-B1B2-04942B05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0C756-64F2-46CD-B236-7DAD966B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41F70-F9A7-413B-A986-626F2E09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44DBC-098A-4C8E-B076-35520921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68A70-36B0-413E-89FB-7ED8AAC6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55264-0C16-4BFB-860D-BF29005A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DEAAA-362B-47B4-A700-482BCD90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CCB4F-7B7B-4D03-AB04-8E27F00F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9A99C-6EFC-4B73-B6A3-A9EDD6B0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22C1B-5078-40D5-AB0E-E562F7BF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EF04-2B97-47DD-A42C-6AC4641F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546E6-4A06-4241-A615-699061F1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7F43E-D852-4B43-9259-4685D83B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E10C8-B195-47FC-8E9C-6FC2DE91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E96B8-B3FC-40E6-834F-1E39AA45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46E14-8BBC-42DA-AFA5-CA8C2F4C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AEDB6-5727-4647-9058-FF31968C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FB6C60-4548-4E52-AC61-FF76816E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14FDF-551B-4A14-947C-01ED1BC4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E6ECD-6289-4D4F-ACDA-A39306D3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85E69-EB14-4262-BB70-77C4DD34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58BA-19FD-46BD-8FCA-F7B356DD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1AA04-8041-4AF7-A81B-C718C7A8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19FE-3C5C-4280-ACF9-E5F5106F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4DD-6F92-4DB7-9EE7-83D089F6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4264-970D-48CA-B78C-023581A0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30AF-DD9A-447B-8248-31F9E13E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A7C8-0AFB-4CBA-A29C-04646649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CC4B-C1F7-4FED-8560-1D5F9507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3BCC-3C4F-43BF-BF44-A254626E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E78DF-312E-40F1-92DB-6D6EDB7A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09CA-2974-4BC6-AD92-B794E00E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0CF3F-B742-4F34-AE09-D9CE75F6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A5D9-170F-45C1-87F6-78F4CEE3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7A50C-8BD4-4C83-9267-854ABDA1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642-1037-4207-A804-35C699E5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CF20-0EF9-47AC-8A49-C4BC5A71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9BE5-0A49-4FB4-9B49-AEDD0903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E799-CD82-4816-A211-7E33C6D2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BA2A-1C01-4882-83C5-A11D4121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9F281-C1B7-49EC-BB00-978F15E9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FCEB9-65F3-42F5-BF6A-1F80B2D2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BBCD-862E-42A5-8153-68F7172A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E115B-01C4-4118-B56C-9753C791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5B897-C036-4F2A-B289-0A40EE1F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2F04-3C1B-42AD-9E9C-77A5A4C2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8AA-D6DA-4688-9857-6D7AD716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10DFA-AFC7-4256-9E6D-45EB0410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D09A4-CF81-410A-B340-8733DE5B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9E2AF-4867-4E31-8DB1-375CCFD6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B75C8-487F-4252-9716-73D729D9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CECA9-22B0-4F38-B6ED-B038451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61F9-05FC-4892-8393-A16ECC15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CEBDD-CD4C-4FD8-AD18-0113F001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E1C55-B3AD-4B7D-ABF5-EFBBFB27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AE470-7AC8-4AAC-9066-052CB12C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BC79-9C1A-467D-9EE1-3E43BF33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E55-BD4D-450B-B494-24B1C4DA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81613-8662-4E65-9DC6-0F907FB0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B2937-8694-497C-BB04-9D16CAC9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C2A4E-2737-4EDB-8449-47239A3C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68226-9C67-47C1-BB1A-13C221BA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32419-BAC7-4AD3-AE4F-8361E0DB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4732-A7BD-4E6A-A832-E2D3990F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65DDB-BC29-453C-905E-D12423C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E02F4-18BC-47B9-94B4-2966E1AD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E9D14-0AD2-422C-9DB9-EC7239AE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6E9DC-1EB3-4D34-BDDA-23A26FB2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073-C63C-4C5E-BCCD-5B479745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4ECED-CE5A-4782-8867-16C99C99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E4D1B-2558-456F-AE87-B23B675C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483D4-29A5-458D-A996-F06255DF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458A7-3C4A-4EB6-B457-F75A822A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83087-C44C-456A-B694-28E68CAB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0D1A4-C653-4CA6-B780-3C70A6F1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511AA-A0F1-458B-BF3A-2BA6BC35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605EE-E28B-40C0-BC61-807DE0F4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9504B-7297-4797-82E2-9A3A5726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EABBA-CC30-4E8F-95E9-04127871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3B0-D0A3-4261-9EAB-2E590017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72710-C2F6-44A3-BC62-8C7D51C4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5764-A460-4C1B-984D-55237391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4A076-910D-4F88-87E3-3DE7D026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D78F4-9F61-4FAD-9E9A-03DDBE9A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51625-1CED-4578-9C7A-B9C7C950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39A48-6A45-45D6-9D0E-33201B70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2AAF1-E57D-4C69-AFE7-AED8A717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0D7D4-A1CF-4419-947A-8BF09C8B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86540-53E7-41DE-9642-A87687E0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3CE7A-CC3F-4B26-9BE5-F2D4EA5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C0D-0376-4D3F-8CAB-27C7E557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BEE67-4E27-4211-AC1E-4EB2C586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5C001-868D-43D8-AE39-4475C25D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979A9-96AC-4F44-AF2E-C3BEC6B9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979E3-4892-45CB-8231-E249E3F3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4334F-AE7A-43AE-AC6F-B26D7198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33C96-F48E-4CB2-B294-6F0C1D75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1A87E-EE13-4CAA-B794-8CB9D34D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95350-6E56-4626-ABDD-8649141B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449DC-1F5D-4BE6-B7E7-8B1E5579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209F9-8F89-4F30-828A-EF5C8048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4A0-9D94-49EE-898A-FD754ECB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C706C-A94B-49F7-A126-C3028602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61D50-550C-43DB-83D3-DA46A6D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B0D2A-9FD9-47E1-8388-1E42B460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C4ADB-5330-446B-8876-EE11EA01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C775A-C9A6-4331-8EC5-B0C0EBC6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77B5F-E21D-411C-B372-774A19D9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226A5-AAC6-4D3E-92F5-ADFC714A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7A2AE-D136-433C-982E-4EB0B9F0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D0B8E-BD6F-4ACE-B499-60CCA966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4BFCE-DF27-4573-8194-17D1E80F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8BB9-26B9-431A-B6E3-EA258A532C9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5DA6-DAAD-46BE-8462-A9096B9F52B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12A1-66C9-4A0B-BC1E-2DB0E9AD99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2FDA-A234-4DB3-94DC-DF7933E4CBC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AE3D-1A10-4232-8D96-89E47BBBC83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813E-390D-4EE8-8F58-117D09D4E6F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D2CC-90C2-4187-9F49-70403E2595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6771-B338-4494-BA4C-1267BE9C4F7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588C-4903-49F9-AA54-B1C89D9847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C856-5DBA-4E8B-8742-A51EEB475F7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0FA0-6849-43F9-84AD-4CB08C1C221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1E99-BBEB-4AEF-824B-3711814DFC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39BF-FEB3-47ED-A4CF-7482877C625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D033-9508-4ABB-AE89-88DB8FCD36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1C6C-FEE9-4897-826C-B34B5E41222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image" Target="../media/image48.wmf"/><Relationship Id="rId1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р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5"/>
          <p:cNvSpPr/>
          <p:nvPr/>
        </p:nvSpPr>
        <p:spPr>
          <a:xfrm>
            <a:off x="1187280" y="5229360"/>
            <a:ext cx="65278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u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+ SO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-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+ 4 NH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→ [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u(NH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]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+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+ SO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bff"/>
                </a:solidFill>
                <a:latin typeface="Times New Roman"/>
                <a:ea typeface="Times New Roman"/>
              </a:rPr>
              <a:t>светло плав</a:t>
            </a:r>
            <a:r>
              <a:rPr b="1" i="1" lang="en-US" sz="2400" spc="-1" strike="noStrike">
                <a:solidFill>
                  <a:srgbClr val="339bff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339bff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en-US" sz="2000" spc="-1" strike="noStrike">
                <a:solidFill>
                  <a:srgbClr val="0000cd"/>
                </a:solidFill>
                <a:latin typeface="Times New Roman"/>
                <a:ea typeface="Times New Roman"/>
              </a:rPr>
              <a:t>тамно пл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" descr=""/>
          <p:cNvPicPr/>
          <p:nvPr/>
        </p:nvPicPr>
        <p:blipFill>
          <a:blip r:embed="rId1"/>
          <a:stretch/>
        </p:blipFill>
        <p:spPr>
          <a:xfrm>
            <a:off x="1187280" y="1981080"/>
            <a:ext cx="3168720" cy="30099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7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3024360" cy="301464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9"/>
          <p:cNvSpPr/>
          <p:nvPr/>
        </p:nvSpPr>
        <p:spPr>
          <a:xfrm>
            <a:off x="1214280" y="1984320"/>
            <a:ext cx="1150920" cy="47520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"/>
          <p:cNvSpPr/>
          <p:nvPr/>
        </p:nvSpPr>
        <p:spPr>
          <a:xfrm>
            <a:off x="4572000" y="1984320"/>
            <a:ext cx="1927080" cy="475200"/>
          </a:xfrm>
          <a:prstGeom prst="rect">
            <a:avLst/>
          </a:prstGeom>
          <a:solidFill>
            <a:srgbClr val="0b5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4" descr=""/>
          <p:cNvPicPr/>
          <p:nvPr/>
        </p:nvPicPr>
        <p:blipFill>
          <a:blip r:embed="rId1"/>
          <a:stretch/>
        </p:blipFill>
        <p:spPr>
          <a:xfrm>
            <a:off x="6429240" y="2000160"/>
            <a:ext cx="1919520" cy="272124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6"/>
          <p:cNvSpPr/>
          <p:nvPr/>
        </p:nvSpPr>
        <p:spPr>
          <a:xfrm>
            <a:off x="214200" y="3068640"/>
            <a:ext cx="5857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 координационе хем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 Нобелова награда за хем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7"/>
          <p:cNvSpPr/>
          <p:nvPr/>
        </p:nvSpPr>
        <p:spPr>
          <a:xfrm>
            <a:off x="1476360" y="1197000"/>
            <a:ext cx="58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комплексних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6215040" y="485784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fred Werner (1866-1919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9"/>
          <p:cNvSpPr/>
          <p:nvPr/>
        </p:nvSpPr>
        <p:spPr>
          <a:xfrm>
            <a:off x="214200" y="2214720"/>
            <a:ext cx="864252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 између комплексног јона и јона спољашње сфере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 између централног јона и лиганад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ординативно-ковалентна  (ковалентн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о-акцепторска ве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2286000" y="1285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мијске везе у комплекс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7"/>
          <p:cNvSpPr/>
          <p:nvPr/>
        </p:nvSpPr>
        <p:spPr>
          <a:xfrm>
            <a:off x="2786040" y="5000760"/>
            <a:ext cx="309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4"/>
          <p:cNvSpPr/>
          <p:nvPr/>
        </p:nvSpPr>
        <p:spPr>
          <a:xfrm>
            <a:off x="1428840" y="1143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комплекса према наелектрис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731880" y="2011320"/>
            <a:ext cx="410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лексни катјон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0"/>
          <p:cNvSpPr/>
          <p:nvPr/>
        </p:nvSpPr>
        <p:spPr>
          <a:xfrm>
            <a:off x="731880" y="4243320"/>
            <a:ext cx="410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лексни анјон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Object 9"/>
          <p:cNvGraphicFramePr/>
          <p:nvPr/>
        </p:nvGraphicFramePr>
        <p:xfrm>
          <a:off x="755640" y="2637000"/>
          <a:ext cx="629748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6297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10"/>
          <p:cNvGraphicFramePr/>
          <p:nvPr/>
        </p:nvGraphicFramePr>
        <p:xfrm>
          <a:off x="770040" y="3284640"/>
          <a:ext cx="646596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3284640"/>
                    <a:ext cx="6465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11"/>
          <p:cNvGraphicFramePr/>
          <p:nvPr/>
        </p:nvGraphicFramePr>
        <p:xfrm>
          <a:off x="785880" y="4857840"/>
          <a:ext cx="597528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4857840"/>
                    <a:ext cx="59752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12"/>
          <p:cNvGraphicFramePr/>
          <p:nvPr/>
        </p:nvGraphicFramePr>
        <p:xfrm>
          <a:off x="785880" y="5643720"/>
          <a:ext cx="5256000" cy="39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6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80" y="5643720"/>
                    <a:ext cx="52560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4"/>
          <p:cNvSpPr/>
          <p:nvPr/>
        </p:nvSpPr>
        <p:spPr>
          <a:xfrm>
            <a:off x="731880" y="1359000"/>
            <a:ext cx="518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лексни катјон и анјон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731880" y="3878280"/>
            <a:ext cx="410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и комплекс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Object 7"/>
          <p:cNvGraphicFramePr/>
          <p:nvPr/>
        </p:nvGraphicFramePr>
        <p:xfrm>
          <a:off x="766800" y="2133720"/>
          <a:ext cx="7118280" cy="35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2133720"/>
                    <a:ext cx="71182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8"/>
          <p:cNvGraphicFramePr/>
          <p:nvPr/>
        </p:nvGraphicFramePr>
        <p:xfrm>
          <a:off x="417600" y="2928960"/>
          <a:ext cx="87264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600" y="2928960"/>
                    <a:ext cx="8726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9"/>
          <p:cNvGraphicFramePr/>
          <p:nvPr/>
        </p:nvGraphicFramePr>
        <p:xfrm>
          <a:off x="785880" y="4929120"/>
          <a:ext cx="3803760" cy="98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4929120"/>
                    <a:ext cx="380376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TextBox 9"/>
          <p:cNvSpPr/>
          <p:nvPr/>
        </p:nvSpPr>
        <p:spPr>
          <a:xfrm>
            <a:off x="3564000" y="486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исос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0"/>
          <p:cNvSpPr/>
          <p:nvPr/>
        </p:nvSpPr>
        <p:spPr>
          <a:xfrm>
            <a:off x="4500720" y="5516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исос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1643040" y="121428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социјација комплексних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Object 5"/>
          <p:cNvGraphicFramePr/>
          <p:nvPr/>
        </p:nvGraphicFramePr>
        <p:xfrm>
          <a:off x="642960" y="2143080"/>
          <a:ext cx="7632720" cy="3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143080"/>
                    <a:ext cx="76327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6"/>
          <p:cNvGraphicFramePr/>
          <p:nvPr/>
        </p:nvGraphicFramePr>
        <p:xfrm>
          <a:off x="642960" y="2928960"/>
          <a:ext cx="8209080" cy="35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2928960"/>
                    <a:ext cx="82090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2" name="Text Box 8"/>
          <p:cNvSpPr/>
          <p:nvPr/>
        </p:nvSpPr>
        <p:spPr>
          <a:xfrm>
            <a:off x="500040" y="4286160"/>
            <a:ext cx="607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оцијација двогубих (двојних) со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Object 7"/>
          <p:cNvGraphicFramePr/>
          <p:nvPr/>
        </p:nvGraphicFramePr>
        <p:xfrm>
          <a:off x="714240" y="5286240"/>
          <a:ext cx="655956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5286240"/>
                    <a:ext cx="6559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4"/>
          <p:cNvSpPr/>
          <p:nvPr/>
        </p:nvSpPr>
        <p:spPr>
          <a:xfrm>
            <a:off x="1258920" y="112536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менклатура комплексних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5"/>
          <p:cNvSpPr/>
          <p:nvPr/>
        </p:nvSpPr>
        <p:spPr>
          <a:xfrm>
            <a:off x="179280" y="1700280"/>
            <a:ext cx="8675640" cy="4590000"/>
          </a:xfrm>
          <a:prstGeom prst="rect">
            <a:avLst/>
          </a:prstGeom>
          <a:noFill/>
          <a:ln w="19080">
            <a:solidFill>
              <a:srgbClr val="115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 метални јон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д анјонског комплекса- од латинског имена метала одбаци се наставак: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UM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IUM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да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AT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mb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M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plumb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M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fer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balt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M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kobalt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имена централног металног јона пише се оксидационо стање римским броје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mb</a:t>
            </a:r>
            <a:r>
              <a:rPr b="0" lang="sr-Latn-CS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t</a:t>
            </a:r>
            <a:r>
              <a:rPr b="0" lang="sr-Latn-C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I)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fer</a:t>
            </a:r>
            <a:r>
              <a:rPr b="0" lang="sr-Latn-CS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t</a:t>
            </a:r>
            <a:r>
              <a:rPr b="0" lang="sr-Latn-C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I)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kobalt</a:t>
            </a:r>
            <a:r>
              <a:rPr b="0" lang="sr-Latn-CS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t</a:t>
            </a:r>
            <a:r>
              <a:rPr b="0" lang="sr-Latn-C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4"/>
          <p:cNvSpPr/>
          <p:nvPr/>
        </p:nvSpPr>
        <p:spPr>
          <a:xfrm>
            <a:off x="250920" y="1197000"/>
            <a:ext cx="8569080" cy="1739880"/>
          </a:xfrm>
          <a:prstGeom prst="rect">
            <a:avLst/>
          </a:prstGeom>
          <a:noFill/>
          <a:ln w="19080">
            <a:solidFill>
              <a:srgbClr val="115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од катјонског и неутралног комплекс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име метала пише се оксидационо стање римским броје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žđe</a:t>
            </a:r>
            <a:r>
              <a:rPr b="0" lang="sr-Latn-C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I)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kobalt</a:t>
            </a:r>
            <a:r>
              <a:rPr b="0" lang="sr-Latn-C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II)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nikal</a:t>
            </a:r>
            <a:r>
              <a:rPr b="0" lang="sr-Latn-C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I)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5"/>
          <p:cNvSpPr/>
          <p:nvPr/>
        </p:nvSpPr>
        <p:spPr>
          <a:xfrm>
            <a:off x="250920" y="3429000"/>
            <a:ext cx="8569080" cy="3172680"/>
          </a:xfrm>
          <a:prstGeom prst="rect">
            <a:avLst/>
          </a:prstGeom>
          <a:noFill/>
          <a:ln w="19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) Испред имена метала ставља се име лиганда и број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онодентатних лиганада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nta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ksa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pta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о је лиганд хелатни – број лиганада означава се са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s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s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kis-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атни лиганди пишу се у заград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4"/>
          <p:cNvSpPr/>
          <p:nvPr/>
        </p:nvSpPr>
        <p:spPr>
          <a:xfrm>
            <a:off x="324000" y="1241280"/>
            <a:ext cx="8496000" cy="1312920"/>
          </a:xfrm>
          <a:prstGeom prst="rect">
            <a:avLst/>
          </a:prstGeom>
          <a:noFill/>
          <a:ln w="19080">
            <a:solidFill>
              <a:srgbClr val="115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У формули се прво пише  (поштујући абецедно правило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латни лиганд – монодентатни – анјонски – неутрални – катјонски  лиган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324000" y="2820960"/>
            <a:ext cx="8424720" cy="1389240"/>
          </a:xfrm>
          <a:prstGeom prst="rect">
            <a:avLst/>
          </a:prstGeom>
          <a:noFill/>
          <a:ln w="19080">
            <a:solidFill>
              <a:srgbClr val="115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Анјонски лиганд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ид  + 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хлорид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  +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О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карбонат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324000" y="4417920"/>
            <a:ext cx="8424720" cy="2408760"/>
          </a:xfrm>
          <a:prstGeom prst="rect">
            <a:avLst/>
          </a:prstGeom>
          <a:noFill/>
          <a:ln w="19080">
            <a:solidFill>
              <a:srgbClr val="115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и лиганд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=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 =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и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зи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Box 1"/>
          <p:cNvSpPr/>
          <p:nvPr/>
        </p:nvSpPr>
        <p:spPr>
          <a:xfrm>
            <a:off x="3000240" y="1071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латни ефе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3" name="Object 2"/>
          <p:cNvGraphicFramePr/>
          <p:nvPr/>
        </p:nvGraphicFramePr>
        <p:xfrm>
          <a:off x="684360" y="1738440"/>
          <a:ext cx="2808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38440"/>
                    <a:ext cx="2808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4"/>
          <p:cNvGraphicFramePr/>
          <p:nvPr/>
        </p:nvGraphicFramePr>
        <p:xfrm>
          <a:off x="684360" y="2836800"/>
          <a:ext cx="347328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836800"/>
                    <a:ext cx="34732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TextBox 6"/>
          <p:cNvSpPr/>
          <p:nvPr/>
        </p:nvSpPr>
        <p:spPr>
          <a:xfrm>
            <a:off x="5029200" y="2103480"/>
            <a:ext cx="27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мета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>
            <a:off x="5029200" y="3154320"/>
            <a:ext cx="27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комплек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8"/>
          <p:cNvSpPr/>
          <p:nvPr/>
        </p:nvSpPr>
        <p:spPr>
          <a:xfrm>
            <a:off x="5029200" y="4297320"/>
            <a:ext cx="27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комплек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Object 9"/>
          <p:cNvGraphicFramePr/>
          <p:nvPr/>
        </p:nvGraphicFramePr>
        <p:xfrm>
          <a:off x="663480" y="4202280"/>
          <a:ext cx="4100760" cy="105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480" y="4202280"/>
                    <a:ext cx="410076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TextBox 10"/>
          <p:cNvSpPr/>
          <p:nvPr/>
        </p:nvSpPr>
        <p:spPr>
          <a:xfrm>
            <a:off x="133200" y="5334120"/>
            <a:ext cx="887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комплекса је већа, што је број прстенова по молекулу лиганда већ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хелатних комплекса у односу на комплексе са монодентатним лигандима назива с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ефека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Straight Arrow Connector 12"/>
          <p:cNvCxnSpPr/>
          <p:nvPr/>
        </p:nvCxnSpPr>
        <p:spPr>
          <a:xfrm>
            <a:off x="8100720" y="1782360"/>
            <a:ext cx="1080" cy="31410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4" name="TextBox 13"/>
          <p:cNvSpPr/>
          <p:nvPr/>
        </p:nvSpPr>
        <p:spPr>
          <a:xfrm>
            <a:off x="8338320" y="1876320"/>
            <a:ext cx="29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6"/>
          <p:cNvSpPr/>
          <p:nvPr/>
        </p:nvSpPr>
        <p:spPr>
          <a:xfrm>
            <a:off x="2232000" y="3240000"/>
            <a:ext cx="424800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7"/>
          <p:cNvSpPr/>
          <p:nvPr/>
        </p:nvSpPr>
        <p:spPr>
          <a:xfrm flipV="1">
            <a:off x="3394080" y="3960360"/>
            <a:ext cx="133200" cy="925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8"/>
          <p:cNvSpPr/>
          <p:nvPr/>
        </p:nvSpPr>
        <p:spPr>
          <a:xfrm flipH="1" flipV="1">
            <a:off x="4751280" y="4032000"/>
            <a:ext cx="21600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1536840" y="4879800"/>
            <a:ext cx="2280960" cy="764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 јон мет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"/>
          <p:cNvSpPr/>
          <p:nvPr/>
        </p:nvSpPr>
        <p:spPr>
          <a:xfrm>
            <a:off x="4214880" y="4879800"/>
            <a:ext cx="1571400" cy="4291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анд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"/>
          <p:cNvSpPr/>
          <p:nvPr/>
        </p:nvSpPr>
        <p:spPr>
          <a:xfrm flipH="1" flipV="1">
            <a:off x="5472000" y="4105080"/>
            <a:ext cx="851040" cy="780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3"/>
          <p:cNvSpPr/>
          <p:nvPr/>
        </p:nvSpPr>
        <p:spPr>
          <a:xfrm>
            <a:off x="6108840" y="4879800"/>
            <a:ext cx="2346120" cy="764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и бро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7"/>
          <p:cNvSpPr/>
          <p:nvPr/>
        </p:nvSpPr>
        <p:spPr>
          <a:xfrm>
            <a:off x="1571760" y="2000160"/>
            <a:ext cx="1714320" cy="1099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8"/>
          <p:cNvSpPr/>
          <p:nvPr/>
        </p:nvSpPr>
        <p:spPr>
          <a:xfrm>
            <a:off x="3608280" y="2000160"/>
            <a:ext cx="1676520" cy="1099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а сфера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1" descr=""/>
          <p:cNvPicPr/>
          <p:nvPr/>
        </p:nvPicPr>
        <p:blipFill>
          <a:blip r:embed="rId1"/>
          <a:stretch/>
        </p:blipFill>
        <p:spPr>
          <a:xfrm>
            <a:off x="3035160" y="3006720"/>
            <a:ext cx="2592360" cy="4478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" descr=""/>
          <p:cNvPicPr/>
          <p:nvPr/>
        </p:nvPicPr>
        <p:blipFill>
          <a:blip r:embed="rId2"/>
          <a:stretch/>
        </p:blipFill>
        <p:spPr>
          <a:xfrm>
            <a:off x="2179800" y="3171960"/>
            <a:ext cx="823680" cy="1429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13"/>
          <p:cNvSpPr/>
          <p:nvPr/>
        </p:nvSpPr>
        <p:spPr>
          <a:xfrm>
            <a:off x="1010520" y="1000080"/>
            <a:ext cx="71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лексна једињења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сложена једиње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1737000" y="1071720"/>
            <a:ext cx="57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а стабилности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9"/>
          <p:cNvSpPr/>
          <p:nvPr/>
        </p:nvSpPr>
        <p:spPr>
          <a:xfrm>
            <a:off x="1403280" y="2997360"/>
            <a:ext cx="95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1"/>
          <a:stretch/>
        </p:blipFill>
        <p:spPr>
          <a:xfrm>
            <a:off x="4206960" y="1557360"/>
            <a:ext cx="1655640" cy="93024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1" descr=""/>
          <p:cNvPicPr/>
          <p:nvPr/>
        </p:nvPicPr>
        <p:blipFill>
          <a:blip r:embed="rId2"/>
          <a:stretch/>
        </p:blipFill>
        <p:spPr>
          <a:xfrm>
            <a:off x="4206960" y="2651040"/>
            <a:ext cx="1765080" cy="9003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12" descr=""/>
          <p:cNvPicPr/>
          <p:nvPr/>
        </p:nvPicPr>
        <p:blipFill>
          <a:blip r:embed="rId3"/>
          <a:stretch/>
        </p:blipFill>
        <p:spPr>
          <a:xfrm>
            <a:off x="4206960" y="4076640"/>
            <a:ext cx="2158920" cy="9540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4" descr=""/>
          <p:cNvPicPr/>
          <p:nvPr/>
        </p:nvPicPr>
        <p:blipFill>
          <a:blip r:embed="rId4"/>
          <a:stretch/>
        </p:blipFill>
        <p:spPr>
          <a:xfrm>
            <a:off x="822240" y="5300640"/>
            <a:ext cx="1781280" cy="566640"/>
          </a:xfrm>
          <a:prstGeom prst="rect">
            <a:avLst/>
          </a:prstGeom>
          <a:ln w="0">
            <a:noFill/>
          </a:ln>
        </p:spPr>
      </p:pic>
      <p:sp>
        <p:nvSpPr>
          <p:cNvPr id="881" name="TextBox 15"/>
          <p:cNvSpPr/>
          <p:nvPr/>
        </p:nvSpPr>
        <p:spPr>
          <a:xfrm>
            <a:off x="3059280" y="5300640"/>
            <a:ext cx="561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рцијалне (сукцесивне) константе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табилности  комплекс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17" descr=""/>
          <p:cNvPicPr/>
          <p:nvPr/>
        </p:nvPicPr>
        <p:blipFill>
          <a:blip r:embed="rId5"/>
          <a:stretch/>
        </p:blipFill>
        <p:spPr>
          <a:xfrm>
            <a:off x="822240" y="4221000"/>
            <a:ext cx="2651040" cy="52236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8" descr=""/>
          <p:cNvPicPr/>
          <p:nvPr/>
        </p:nvPicPr>
        <p:blipFill>
          <a:blip r:embed="rId6"/>
          <a:stretch/>
        </p:blipFill>
        <p:spPr>
          <a:xfrm>
            <a:off x="822240" y="2743200"/>
            <a:ext cx="2552760" cy="5475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19" descr=""/>
          <p:cNvPicPr/>
          <p:nvPr/>
        </p:nvPicPr>
        <p:blipFill>
          <a:blip r:embed="rId7"/>
          <a:stretch/>
        </p:blipFill>
        <p:spPr>
          <a:xfrm>
            <a:off x="822240" y="1744560"/>
            <a:ext cx="2293920" cy="53208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28" descr=""/>
          <p:cNvPicPr/>
          <p:nvPr/>
        </p:nvPicPr>
        <p:blipFill>
          <a:blip r:embed="rId8"/>
          <a:stretch/>
        </p:blipFill>
        <p:spPr>
          <a:xfrm>
            <a:off x="6732720" y="2743200"/>
            <a:ext cx="1942920" cy="425520"/>
          </a:xfrm>
          <a:prstGeom prst="rect">
            <a:avLst/>
          </a:prstGeom>
          <a:ln w="0">
            <a:noFill/>
          </a:ln>
        </p:spPr>
      </p:pic>
      <p:sp>
        <p:nvSpPr>
          <p:cNvPr id="886" name="TextBox 29"/>
          <p:cNvSpPr/>
          <p:nvPr/>
        </p:nvSpPr>
        <p:spPr>
          <a:xfrm>
            <a:off x="6581520" y="314316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тоје и изузец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1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084480" cy="66852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22" descr=""/>
          <p:cNvPicPr/>
          <p:nvPr/>
        </p:nvPicPr>
        <p:blipFill>
          <a:blip r:embed="rId2"/>
          <a:stretch/>
        </p:blipFill>
        <p:spPr>
          <a:xfrm>
            <a:off x="4572000" y="1428840"/>
            <a:ext cx="2290680" cy="120168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23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1070280" cy="576000"/>
          </a:xfrm>
          <a:prstGeom prst="rect">
            <a:avLst/>
          </a:prstGeom>
          <a:ln w="0">
            <a:noFill/>
          </a:ln>
        </p:spPr>
      </p:pic>
      <p:sp>
        <p:nvSpPr>
          <p:cNvPr id="890" name="Rectangle 26"/>
          <p:cNvSpPr/>
          <p:nvPr/>
        </p:nvSpPr>
        <p:spPr>
          <a:xfrm>
            <a:off x="2700360" y="3046320"/>
            <a:ext cx="5616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упна (општа, кумулативна)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онстанта стабилности (грађења)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омплекс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30" descr=""/>
          <p:cNvPicPr/>
          <p:nvPr/>
        </p:nvPicPr>
        <p:blipFill>
          <a:blip r:embed="rId4"/>
          <a:stretch/>
        </p:blipFill>
        <p:spPr>
          <a:xfrm>
            <a:off x="2571840" y="4714920"/>
            <a:ext cx="3644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"/>
          <p:cNvSpPr/>
          <p:nvPr/>
        </p:nvSpPr>
        <p:spPr>
          <a:xfrm>
            <a:off x="1500120" y="1071720"/>
            <a:ext cx="61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a нестабилности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2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2425680" cy="5601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3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1800360" cy="98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5" name="Object 4"/>
          <p:cNvGraphicFramePr/>
          <p:nvPr/>
        </p:nvGraphicFramePr>
        <p:xfrm>
          <a:off x="914400" y="2862360"/>
          <a:ext cx="662472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862360"/>
                    <a:ext cx="66247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7" name="Object 5"/>
          <p:cNvGraphicFramePr/>
          <p:nvPr/>
        </p:nvGraphicFramePr>
        <p:xfrm>
          <a:off x="914400" y="3645000"/>
          <a:ext cx="684036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645000"/>
                    <a:ext cx="68403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Object 6"/>
          <p:cNvGraphicFramePr/>
          <p:nvPr/>
        </p:nvGraphicFramePr>
        <p:xfrm>
          <a:off x="914400" y="4437000"/>
          <a:ext cx="703260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437000"/>
                    <a:ext cx="703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Object 7"/>
          <p:cNvGraphicFramePr/>
          <p:nvPr/>
        </p:nvGraphicFramePr>
        <p:xfrm>
          <a:off x="914400" y="5229360"/>
          <a:ext cx="6610320" cy="52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5229360"/>
                    <a:ext cx="661032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3" name="Picture 8" descr=""/>
          <p:cNvPicPr/>
          <p:nvPr/>
        </p:nvPicPr>
        <p:blipFill>
          <a:blip r:embed="rId11"/>
          <a:stretch/>
        </p:blipFill>
        <p:spPr>
          <a:xfrm>
            <a:off x="2286000" y="6126120"/>
            <a:ext cx="33130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10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2525760" cy="503280"/>
          </a:xfrm>
          <a:prstGeom prst="rect">
            <a:avLst/>
          </a:prstGeom>
          <a:ln w="0">
            <a:noFill/>
          </a:ln>
        </p:spPr>
      </p:pic>
      <p:sp>
        <p:nvSpPr>
          <p:cNvPr id="905" name="Rectangle 11"/>
          <p:cNvSpPr/>
          <p:nvPr/>
        </p:nvSpPr>
        <p:spPr>
          <a:xfrm>
            <a:off x="3174840" y="1268280"/>
            <a:ext cx="58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е (сукцесивне) констант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ости комплек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12" descr=""/>
          <p:cNvPicPr/>
          <p:nvPr/>
        </p:nvPicPr>
        <p:blipFill>
          <a:blip r:embed="rId2"/>
          <a:stretch/>
        </p:blipFill>
        <p:spPr>
          <a:xfrm>
            <a:off x="2484360" y="2349360"/>
            <a:ext cx="568440" cy="595440"/>
          </a:xfrm>
          <a:prstGeom prst="rect">
            <a:avLst/>
          </a:prstGeom>
          <a:ln w="0">
            <a:noFill/>
          </a:ln>
        </p:spPr>
      </p:pic>
      <p:sp>
        <p:nvSpPr>
          <p:cNvPr id="907" name="Rectangle 13"/>
          <p:cNvSpPr/>
          <p:nvPr/>
        </p:nvSpPr>
        <p:spPr>
          <a:xfrm>
            <a:off x="3203640" y="2421000"/>
            <a:ext cx="508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а констан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оцијације) комплек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Picture 18" descr=""/>
          <p:cNvPicPr/>
          <p:nvPr/>
        </p:nvPicPr>
        <p:blipFill>
          <a:blip r:embed="rId3"/>
          <a:stretch/>
        </p:blipFill>
        <p:spPr>
          <a:xfrm>
            <a:off x="3492360" y="5157720"/>
            <a:ext cx="1584360" cy="1298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09" name="TextBox 7"/>
          <p:cNvSpPr/>
          <p:nvPr/>
        </p:nvSpPr>
        <p:spPr>
          <a:xfrm>
            <a:off x="395280" y="3645000"/>
            <a:ext cx="360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а стабилности комплек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9"/>
          <p:cNvSpPr/>
          <p:nvPr/>
        </p:nvSpPr>
        <p:spPr>
          <a:xfrm>
            <a:off x="4572000" y="3933720"/>
            <a:ext cx="388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а нестабилности комплек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10"/>
          <p:cNvSpPr/>
          <p:nvPr/>
        </p:nvSpPr>
        <p:spPr>
          <a:xfrm>
            <a:off x="3995640" y="36450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traight Connector 12"/>
          <p:cNvSpPr/>
          <p:nvPr/>
        </p:nvSpPr>
        <p:spPr>
          <a:xfrm>
            <a:off x="4572000" y="3933720"/>
            <a:ext cx="3816360" cy="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5"/>
          <p:cNvSpPr/>
          <p:nvPr/>
        </p:nvSpPr>
        <p:spPr>
          <a:xfrm>
            <a:off x="6227640" y="3429000"/>
            <a:ext cx="50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Box 1"/>
          <p:cNvSpPr/>
          <p:nvPr/>
        </p:nvSpPr>
        <p:spPr>
          <a:xfrm>
            <a:off x="232200" y="785880"/>
            <a:ext cx="85140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ка је константа стабилности комплекса ако је укупн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и (дисоцијације) комплекса 2,1·10</a:t>
            </a:r>
            <a:r>
              <a:rPr b="0" lang="ru-RU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3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3" descr=""/>
          <p:cNvPicPr/>
          <p:nvPr/>
        </p:nvPicPr>
        <p:blipFill>
          <a:blip r:embed="rId1"/>
          <a:stretch/>
        </p:blipFill>
        <p:spPr>
          <a:xfrm>
            <a:off x="639720" y="2071800"/>
            <a:ext cx="5335560" cy="1446120"/>
          </a:xfrm>
          <a:prstGeom prst="rect">
            <a:avLst/>
          </a:prstGeom>
          <a:ln w="0">
            <a:noFill/>
          </a:ln>
        </p:spPr>
      </p:pic>
      <p:sp>
        <p:nvSpPr>
          <p:cNvPr id="916" name="Rectangle 4"/>
          <p:cNvSpPr/>
          <p:nvPr/>
        </p:nvSpPr>
        <p:spPr>
          <a:xfrm>
            <a:off x="250560" y="3549600"/>
            <a:ext cx="5345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комплексни јон је стабилнији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9" descr=""/>
          <p:cNvPicPr/>
          <p:nvPr/>
        </p:nvPicPr>
        <p:blipFill>
          <a:blip r:embed="rId2"/>
          <a:stretch/>
        </p:blipFill>
        <p:spPr>
          <a:xfrm>
            <a:off x="639720" y="4000680"/>
            <a:ext cx="4608720" cy="5252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0" descr=""/>
          <p:cNvPicPr/>
          <p:nvPr/>
        </p:nvPicPr>
        <p:blipFill>
          <a:blip r:embed="rId3"/>
          <a:stretch/>
        </p:blipFill>
        <p:spPr>
          <a:xfrm>
            <a:off x="639720" y="4500720"/>
            <a:ext cx="3957840" cy="119196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2"/>
          <p:cNvSpPr/>
          <p:nvPr/>
        </p:nvSpPr>
        <p:spPr>
          <a:xfrm>
            <a:off x="852480" y="5767560"/>
            <a:ext cx="69562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вредност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t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је стабилниј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вредност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је мање стабила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rrow: Right 13"/>
          <p:cNvSpPr/>
          <p:nvPr/>
        </p:nvSpPr>
        <p:spPr>
          <a:xfrm>
            <a:off x="3276720" y="6021360"/>
            <a:ext cx="718920" cy="44640"/>
          </a:xfrm>
          <a:prstGeom prst="rightArrow">
            <a:avLst>
              <a:gd name="adj1" fmla="val 50000"/>
              <a:gd name="adj2" fmla="val 498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rrow: Right 14"/>
          <p:cNvSpPr/>
          <p:nvPr/>
        </p:nvSpPr>
        <p:spPr>
          <a:xfrm>
            <a:off x="3276720" y="6453360"/>
            <a:ext cx="718920" cy="45720"/>
          </a:xfrm>
          <a:prstGeom prst="rightArrow">
            <a:avLst>
              <a:gd name="adj1" fmla="val 50000"/>
              <a:gd name="adj2" fmla="val 5030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Box 1"/>
          <p:cNvSpPr/>
          <p:nvPr/>
        </p:nvSpPr>
        <p:spPr>
          <a:xfrm>
            <a:off x="611280" y="1079640"/>
            <a:ext cx="83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латни комплекси – метал/EDTA комплек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2"/>
          <p:cNvSpPr/>
          <p:nvPr/>
        </p:nvSpPr>
        <p:spPr>
          <a:xfrm>
            <a:off x="182520" y="1785960"/>
            <a:ext cx="87138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ка примена хелатних комплекса у аналитичкој хемији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ометријска титрација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познатија група хелатних лиганада су комплексони –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аминосирћетне киселине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чешће коришћен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тилендиаминтетрасирћетна  </a:t>
            </a:r>
            <a:br>
              <a:rPr sz="2500"/>
            </a:b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киселин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DTA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лексон I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6"/>
          <p:cNvSpPr/>
          <p:nvPr/>
        </p:nvSpPr>
        <p:spPr>
          <a:xfrm>
            <a:off x="571680" y="6215040"/>
            <a:ext cx="764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ест координативних места (хексадентатни лиганд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5" name="Object 7"/>
          <p:cNvGraphicFramePr/>
          <p:nvPr/>
        </p:nvGraphicFramePr>
        <p:xfrm>
          <a:off x="1428840" y="4572000"/>
          <a:ext cx="5070240" cy="16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4572000"/>
                    <a:ext cx="5070240" cy="16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1"/>
          <p:cNvSpPr/>
          <p:nvPr/>
        </p:nvSpPr>
        <p:spPr>
          <a:xfrm>
            <a:off x="642960" y="1285920"/>
            <a:ext cx="648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рапротонска киселина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8" name="Object 1"/>
          <p:cNvGraphicFramePr/>
          <p:nvPr/>
        </p:nvGraphicFramePr>
        <p:xfrm>
          <a:off x="639720" y="2063880"/>
          <a:ext cx="476892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063880"/>
                    <a:ext cx="47689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Rectangle 3"/>
          <p:cNvSpPr/>
          <p:nvPr/>
        </p:nvSpPr>
        <p:spPr>
          <a:xfrm>
            <a:off x="5953320" y="220500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1 = 2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Object 2"/>
          <p:cNvGraphicFramePr/>
          <p:nvPr/>
        </p:nvGraphicFramePr>
        <p:xfrm>
          <a:off x="639720" y="3139920"/>
          <a:ext cx="476892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720" y="3139920"/>
                    <a:ext cx="47689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Rectangle 5"/>
          <p:cNvSpPr/>
          <p:nvPr/>
        </p:nvSpPr>
        <p:spPr>
          <a:xfrm>
            <a:off x="5961240" y="3265560"/>
            <a:ext cx="171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Object 3"/>
          <p:cNvGraphicFramePr/>
          <p:nvPr/>
        </p:nvGraphicFramePr>
        <p:xfrm>
          <a:off x="639720" y="4140360"/>
          <a:ext cx="4759200" cy="80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4140360"/>
                    <a:ext cx="4759200" cy="80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4"/>
          <p:cNvGraphicFramePr/>
          <p:nvPr/>
        </p:nvGraphicFramePr>
        <p:xfrm>
          <a:off x="639720" y="5157720"/>
          <a:ext cx="477216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9720" y="5157720"/>
                    <a:ext cx="4772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Rectangle 8"/>
          <p:cNvSpPr/>
          <p:nvPr/>
        </p:nvSpPr>
        <p:spPr>
          <a:xfrm>
            <a:off x="5961240" y="4221000"/>
            <a:ext cx="171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9"/>
          <p:cNvSpPr/>
          <p:nvPr/>
        </p:nvSpPr>
        <p:spPr>
          <a:xfrm>
            <a:off x="5961960" y="5229360"/>
            <a:ext cx="1896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,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Box 1"/>
          <p:cNvSpPr/>
          <p:nvPr/>
        </p:nvSpPr>
        <p:spPr>
          <a:xfrm>
            <a:off x="182520" y="1285920"/>
            <a:ext cx="874872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pH ≈ 2,00 најприсутнији облик у раствору је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pH = 2,00 – 2,70  најприсутнији облик је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pH = 2,70 – 6,20  најприсутнији облик је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pH = 6,20 – 10,30  најприсутнији облик је H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pH &gt; 10,30  најприсутнији облик је Y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-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2" descr="C:\Users\Maca\Desktop\skenirano\edta.jpeg"/>
          <p:cNvPicPr/>
          <p:nvPr/>
        </p:nvPicPr>
        <p:blipFill>
          <a:blip r:embed="rId1"/>
          <a:stretch/>
        </p:blipFill>
        <p:spPr>
          <a:xfrm>
            <a:off x="1357200" y="3929040"/>
            <a:ext cx="5184720" cy="2465280"/>
          </a:xfrm>
          <a:prstGeom prst="rect">
            <a:avLst/>
          </a:prstGeom>
          <a:ln w="0">
            <a:noFill/>
          </a:ln>
        </p:spPr>
      </p:pic>
      <p:sp>
        <p:nvSpPr>
          <p:cNvPr id="942" name="TextBox 3"/>
          <p:cNvSpPr/>
          <p:nvPr/>
        </p:nvSpPr>
        <p:spPr>
          <a:xfrm>
            <a:off x="1476360" y="3789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4"/>
          <p:cNvSpPr/>
          <p:nvPr/>
        </p:nvSpPr>
        <p:spPr>
          <a:xfrm>
            <a:off x="6084720" y="5950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TextBox 1"/>
          <p:cNvSpPr/>
          <p:nvPr/>
        </p:nvSpPr>
        <p:spPr>
          <a:xfrm>
            <a:off x="-36360" y="1125360"/>
            <a:ext cx="921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слабе растворљивости EDTA за аналитичка одређивања се начешће користи динатрујимова со (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лексон II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2"/>
          <p:cNvSpPr/>
          <p:nvPr/>
        </p:nvSpPr>
        <p:spPr>
          <a:xfrm>
            <a:off x="4067280" y="2414520"/>
            <a:ext cx="446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комплекси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DTA са скоро свим катјонима метала су растворни у води и веома стабилни.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DTA представља значајан реагенс код комплексометријских титра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3"/>
          <p:cNvSpPr/>
          <p:nvPr/>
        </p:nvSpPr>
        <p:spPr>
          <a:xfrm>
            <a:off x="250920" y="5805360"/>
            <a:ext cx="871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етала, без обзира на наелектрисање, увек реагује с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DTA 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ском одно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1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Object 2"/>
          <p:cNvGraphicFramePr/>
          <p:nvPr/>
        </p:nvGraphicFramePr>
        <p:xfrm>
          <a:off x="1116000" y="2133720"/>
          <a:ext cx="208764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133720"/>
                    <a:ext cx="208764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9" name="Rectangle 5"/>
          <p:cNvSpPr/>
          <p:nvPr/>
        </p:nvSpPr>
        <p:spPr>
          <a:xfrm>
            <a:off x="4434480" y="5072040"/>
            <a:ext cx="3208680" cy="527400"/>
          </a:xfrm>
          <a:prstGeom prst="rect">
            <a:avLst/>
          </a:prstGeom>
          <a:noFill/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 : Na</a:t>
            </a:r>
            <a:r>
              <a:rPr b="1" lang="en-US" sz="25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EDTA = 1 : 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Box 1"/>
          <p:cNvSpPr/>
          <p:nvPr/>
        </p:nvSpPr>
        <p:spPr>
          <a:xfrm>
            <a:off x="324000" y="10350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споредних реакција на равнотеже грађења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2"/>
          <p:cNvSpPr/>
          <p:nvPr/>
        </p:nvSpPr>
        <p:spPr>
          <a:xfrm>
            <a:off x="108000" y="2060640"/>
            <a:ext cx="87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других супстанци у раствору, које могу реаговати са јоном метала или лигандом, утицаће на смањење њихове концентрације – помераће се равнотежна реакција дисоцијације и тиме мењати стабилност компле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3"/>
          <p:cNvSpPr/>
          <p:nvPr/>
        </p:nvSpPr>
        <p:spPr>
          <a:xfrm>
            <a:off x="0" y="5877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је најчешћи утицај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који реагују са лигандом и неких комплексирајућих супстанци (А) које реагују са јоном ме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3" name="Object 2"/>
          <p:cNvGraphicFramePr/>
          <p:nvPr/>
        </p:nvGraphicFramePr>
        <p:xfrm>
          <a:off x="1285920" y="3786120"/>
          <a:ext cx="58626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786120"/>
                    <a:ext cx="58626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179280" y="1785960"/>
            <a:ext cx="89647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нтрални јон метал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итељ комплекс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е прелазни елемен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пуњене d-орбитал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ептори електронских парова (Луисове кисел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централни јон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уклеар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g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Cl, [Co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централних јона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уклеар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[Pt(en)Cl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z)}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2286000" y="1785960"/>
            <a:ext cx="4022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6"/>
          <p:cNvSpPr/>
          <p:nvPr/>
        </p:nvSpPr>
        <p:spPr>
          <a:xfrm>
            <a:off x="3081240" y="1857240"/>
            <a:ext cx="574920" cy="628920"/>
          </a:xfrm>
          <a:prstGeom prst="ellipse">
            <a:avLst/>
          </a:prstGeom>
          <a:noFill/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1214280" y="107172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комплекса: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Ц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нтрални јон ме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3"/>
          <p:cNvSpPr/>
          <p:nvPr/>
        </p:nvSpPr>
        <p:spPr>
          <a:xfrm>
            <a:off x="34920" y="1967040"/>
            <a:ext cx="91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споредних реакција на основни процес грађења комплекса може се одредити увођењем условне (реалне) константе стаби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"/>
          <p:cNvSpPr/>
          <p:nvPr/>
        </p:nvSpPr>
        <p:spPr>
          <a:xfrm>
            <a:off x="1084680" y="1071720"/>
            <a:ext cx="72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ловна константа стабилности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7" name="Object 2"/>
          <p:cNvGraphicFramePr/>
          <p:nvPr/>
        </p:nvGraphicFramePr>
        <p:xfrm>
          <a:off x="2411280" y="3357720"/>
          <a:ext cx="354996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354996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TextBox 3"/>
          <p:cNvSpPr/>
          <p:nvPr/>
        </p:nvSpPr>
        <p:spPr>
          <a:xfrm>
            <a:off x="198360" y="4508640"/>
            <a:ext cx="87472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`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`L`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овна (реална) константа стабилности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`] - укупна концентрација јона метала, осим оног дела који је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у основној реакцији реаговао са  L градећи комплекс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L`] - укупна концентрација лиганда у свим облицима осим оног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дела који је реаговао са јоном метала,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Box 1"/>
          <p:cNvSpPr/>
          <p:nvPr/>
        </p:nvSpPr>
        <p:spPr>
          <a:xfrm>
            <a:off x="65160" y="1076400"/>
            <a:ext cx="863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чунавање условних константи стабилности примењују се коефицијенти споредних реакција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2689200" y="1989000"/>
          <a:ext cx="339084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1989000"/>
                    <a:ext cx="339084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3" name="Object 5"/>
          <p:cNvGraphicFramePr/>
          <p:nvPr/>
        </p:nvGraphicFramePr>
        <p:xfrm>
          <a:off x="2771640" y="2933640"/>
          <a:ext cx="329112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2933640"/>
                    <a:ext cx="3291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Object 6"/>
          <p:cNvGraphicFramePr/>
          <p:nvPr/>
        </p:nvGraphicFramePr>
        <p:xfrm>
          <a:off x="1619280" y="3941640"/>
          <a:ext cx="567036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3941640"/>
                    <a:ext cx="5670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TextBox 7"/>
          <p:cNvSpPr/>
          <p:nvPr/>
        </p:nvSpPr>
        <p:spPr>
          <a:xfrm>
            <a:off x="65160" y="5013360"/>
            <a:ext cx="87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(нема споредних реакција) → K`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`L`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1"/>
          <p:cNvSpPr/>
          <p:nvPr/>
        </p:nvSpPr>
        <p:spPr>
          <a:xfrm>
            <a:off x="95400" y="5722920"/>
            <a:ext cx="89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утицајем споредних реакција константа стабилности комплекса с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ловна (реална) константа стаби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1"/>
          <p:cNvSpPr/>
          <p:nvPr/>
        </p:nvSpPr>
        <p:spPr>
          <a:xfrm>
            <a:off x="173160" y="1276200"/>
            <a:ext cx="15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2"/>
          <p:cNvSpPr/>
          <p:nvPr/>
        </p:nvSpPr>
        <p:spPr>
          <a:xfrm>
            <a:off x="252360" y="1928880"/>
            <a:ext cx="86774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условну константу стабилности CaY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 при pH 5. (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a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029 mol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3"/>
          <p:cNvSpPr/>
          <p:nvPr/>
        </p:nvSpPr>
        <p:spPr>
          <a:xfrm>
            <a:off x="150840" y="3046320"/>
            <a:ext cx="806436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е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ицијент </a:t>
            </a:r>
            <a:r>
              <a:rPr b="0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EDTA представља табеларну вредност при одређеној pH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5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си 3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2" name="Object 3"/>
          <p:cNvGraphicFramePr/>
          <p:nvPr/>
        </p:nvGraphicFramePr>
        <p:xfrm>
          <a:off x="285840" y="5500800"/>
          <a:ext cx="644364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5500800"/>
                    <a:ext cx="64436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TextBox 1"/>
          <p:cNvSpPr/>
          <p:nvPr/>
        </p:nvSpPr>
        <p:spPr>
          <a:xfrm>
            <a:off x="1116000" y="112536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теже у хетерогеним систем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2"/>
          <p:cNvSpPr/>
          <p:nvPr/>
        </p:nvSpPr>
        <p:spPr>
          <a:xfrm>
            <a:off x="2000160" y="1785960"/>
            <a:ext cx="507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извод растворљив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Object 4"/>
          <p:cNvGraphicFramePr/>
          <p:nvPr/>
        </p:nvGraphicFramePr>
        <p:xfrm>
          <a:off x="1428840" y="3071880"/>
          <a:ext cx="214308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3071880"/>
                    <a:ext cx="21430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8" name="Straight Arrow Connector 8"/>
          <p:cNvCxnSpPr/>
          <p:nvPr/>
        </p:nvCxnSpPr>
        <p:spPr>
          <a:xfrm>
            <a:off x="3500280" y="5000760"/>
            <a:ext cx="858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9" name="TextBox 9"/>
          <p:cNvSpPr/>
          <p:nvPr/>
        </p:nvSpPr>
        <p:spPr>
          <a:xfrm>
            <a:off x="4357800" y="4572000"/>
            <a:ext cx="450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B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0"/>
          <p:cNvSpPr/>
          <p:nvPr/>
        </p:nvSpPr>
        <p:spPr>
          <a:xfrm>
            <a:off x="3929040" y="5572080"/>
            <a:ext cx="2500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Straight Arrow Connector 11"/>
          <p:cNvCxnSpPr/>
          <p:nvPr/>
        </p:nvCxnSpPr>
        <p:spPr>
          <a:xfrm>
            <a:off x="3071520" y="5857920"/>
            <a:ext cx="857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Box 4"/>
          <p:cNvSpPr/>
          <p:nvPr/>
        </p:nvSpPr>
        <p:spPr>
          <a:xfrm>
            <a:off x="1805040" y="1714680"/>
            <a:ext cx="249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(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5"/>
          <p:cNvSpPr/>
          <p:nvPr/>
        </p:nvSpPr>
        <p:spPr>
          <a:xfrm>
            <a:off x="1828800" y="2198520"/>
            <a:ext cx="277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6"/>
          <p:cNvSpPr/>
          <p:nvPr/>
        </p:nvSpPr>
        <p:spPr>
          <a:xfrm>
            <a:off x="1828800" y="2658960"/>
            <a:ext cx="126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293760" y="3108240"/>
            <a:ext cx="4643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(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Object 6"/>
              <p:cNvSpPr txBox="1"/>
              <p:nvPr/>
            </p:nvSpPr>
            <p:spPr>
              <a:xfrm>
                <a:off x="1028880" y="3726000"/>
                <a:ext cx="33336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Oval 10"/>
          <p:cNvSpPr/>
          <p:nvPr/>
        </p:nvSpPr>
        <p:spPr>
          <a:xfrm>
            <a:off x="1004760" y="3943440"/>
            <a:ext cx="505080" cy="6429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11"/>
          <p:cNvSpPr/>
          <p:nvPr/>
        </p:nvSpPr>
        <p:spPr>
          <a:xfrm>
            <a:off x="4857840" y="4071960"/>
            <a:ext cx="373860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равно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1"/>
          <p:cNvSpPr/>
          <p:nvPr/>
        </p:nvSpPr>
        <p:spPr>
          <a:xfrm>
            <a:off x="5500800" y="3200400"/>
            <a:ext cx="310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(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11"/>
          <p:cNvSpPr/>
          <p:nvPr/>
        </p:nvSpPr>
        <p:spPr>
          <a:xfrm>
            <a:off x="477720" y="4896000"/>
            <a:ext cx="5000760" cy="579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ight Brace 12"/>
          <p:cNvSpPr/>
          <p:nvPr/>
        </p:nvSpPr>
        <p:spPr>
          <a:xfrm rot="5400000">
            <a:off x="1352160" y="4878360"/>
            <a:ext cx="428400" cy="174924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749240"/>
              <a:gd name="textAreaBottom" fmla="*/ 1738080 h 17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1"/>
                  <a:pt x="10800" y="441"/>
                </a:cubicBezTo>
                <a:lnTo>
                  <a:pt x="10800" y="10359"/>
                </a:lnTo>
                <a:cubicBezTo>
                  <a:pt x="10800" y="10580"/>
                  <a:pt x="16200" y="10800"/>
                  <a:pt x="21600" y="10800"/>
                </a:cubicBezTo>
                <a:cubicBezTo>
                  <a:pt x="16200" y="10800"/>
                  <a:pt x="10800" y="11021"/>
                  <a:pt x="10800" y="11241"/>
                </a:cubicBezTo>
                <a:lnTo>
                  <a:pt x="10800" y="21159"/>
                </a:lnTo>
                <a:cubicBezTo>
                  <a:pt x="10800" y="2138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692280" y="6110280"/>
            <a:ext cx="464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раствор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14"/>
          <p:cNvSpPr/>
          <p:nvPr/>
        </p:nvSpPr>
        <p:spPr>
          <a:xfrm>
            <a:off x="5308560" y="5967360"/>
            <a:ext cx="3429000" cy="64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4" name="Object 21"/>
          <p:cNvGraphicFramePr/>
          <p:nvPr/>
        </p:nvGraphicFramePr>
        <p:xfrm>
          <a:off x="1835280" y="1052640"/>
          <a:ext cx="506700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052640"/>
                    <a:ext cx="5067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TextBox 4"/>
          <p:cNvSpPr/>
          <p:nvPr/>
        </p:nvSpPr>
        <p:spPr>
          <a:xfrm>
            <a:off x="1714680" y="1857240"/>
            <a:ext cx="27144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5"/>
          <p:cNvSpPr/>
          <p:nvPr/>
        </p:nvSpPr>
        <p:spPr>
          <a:xfrm>
            <a:off x="395280" y="2637000"/>
            <a:ext cx="439092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та је растворљивост (S)</a:t>
            </a:r>
            <a:r>
              <a:rPr b="1" lang="sr-Latn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7"/>
          <p:cNvSpPr/>
          <p:nvPr/>
        </p:nvSpPr>
        <p:spPr>
          <a:xfrm>
            <a:off x="395280" y="3857760"/>
            <a:ext cx="36720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ova се раства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8"/>
          <p:cNvSpPr/>
          <p:nvPr/>
        </p:nvSpPr>
        <p:spPr>
          <a:xfrm>
            <a:off x="3886200" y="3849840"/>
            <a:ext cx="1357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9"/>
          <p:cNvSpPr/>
          <p:nvPr/>
        </p:nvSpPr>
        <p:spPr>
          <a:xfrm>
            <a:off x="5643720" y="3929040"/>
            <a:ext cx="1357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10"/>
          <p:cNvSpPr/>
          <p:nvPr/>
        </p:nvSpPr>
        <p:spPr>
          <a:xfrm>
            <a:off x="658800" y="4537080"/>
            <a:ext cx="1644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11"/>
          <p:cNvSpPr/>
          <p:nvPr/>
        </p:nvSpPr>
        <p:spPr>
          <a:xfrm>
            <a:off x="2749680" y="4537080"/>
            <a:ext cx="1643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12"/>
          <p:cNvSpPr/>
          <p:nvPr/>
        </p:nvSpPr>
        <p:spPr>
          <a:xfrm>
            <a:off x="673200" y="5308560"/>
            <a:ext cx="47149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xS)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S)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3"/>
          <p:cNvSpPr/>
          <p:nvPr/>
        </p:nvSpPr>
        <p:spPr>
          <a:xfrm>
            <a:off x="684360" y="6078600"/>
            <a:ext cx="471456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x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x+y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5" name="Object 6"/>
              <p:cNvSpPr txBox="1"/>
              <p:nvPr/>
            </p:nvSpPr>
            <p:spPr>
              <a:xfrm>
                <a:off x="5918040" y="5261040"/>
                <a:ext cx="279720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y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006" name="Object 24"/>
          <p:cNvGraphicFramePr/>
          <p:nvPr/>
        </p:nvGraphicFramePr>
        <p:xfrm>
          <a:off x="714240" y="1285920"/>
          <a:ext cx="545940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285920"/>
                    <a:ext cx="5459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Object 25"/>
          <p:cNvGraphicFramePr/>
          <p:nvPr/>
        </p:nvGraphicFramePr>
        <p:xfrm>
          <a:off x="468360" y="3284640"/>
          <a:ext cx="609264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9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284640"/>
                    <a:ext cx="60926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Box 3"/>
          <p:cNvSpPr/>
          <p:nvPr/>
        </p:nvSpPr>
        <p:spPr>
          <a:xfrm>
            <a:off x="179280" y="54936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4"/>
          <p:cNvSpPr/>
          <p:nvPr/>
        </p:nvSpPr>
        <p:spPr>
          <a:xfrm>
            <a:off x="179280" y="981000"/>
            <a:ext cx="889344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растворљивости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je 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растворљивост ове соли у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/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(Ag) = 107,8; Ar(Cl) = 35,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7"/>
          <p:cNvSpPr/>
          <p:nvPr/>
        </p:nvSpPr>
        <p:spPr>
          <a:xfrm>
            <a:off x="6191280" y="1857240"/>
            <a:ext cx="29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AgCl)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8"/>
          <p:cNvSpPr/>
          <p:nvPr/>
        </p:nvSpPr>
        <p:spPr>
          <a:xfrm>
            <a:off x="365040" y="2852640"/>
            <a:ext cx="285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AgCl)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11"/>
          <p:cNvSpPr/>
          <p:nvPr/>
        </p:nvSpPr>
        <p:spPr>
          <a:xfrm>
            <a:off x="6572160" y="26431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13"/>
          <p:cNvSpPr/>
          <p:nvPr/>
        </p:nvSpPr>
        <p:spPr>
          <a:xfrm>
            <a:off x="365040" y="3429000"/>
            <a:ext cx="455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AgCl)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 x S = S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6" name="Object 12"/>
          <p:cNvGraphicFramePr/>
          <p:nvPr/>
        </p:nvGraphicFramePr>
        <p:xfrm>
          <a:off x="365040" y="4005360"/>
          <a:ext cx="521028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4005360"/>
                    <a:ext cx="52102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8" name="TextBox 4"/>
          <p:cNvSpPr/>
          <p:nvPr/>
        </p:nvSpPr>
        <p:spPr>
          <a:xfrm>
            <a:off x="365040" y="4941720"/>
            <a:ext cx="26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gCl) = 143,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5"/>
          <p:cNvSpPr/>
          <p:nvPr/>
        </p:nvSpPr>
        <p:spPr>
          <a:xfrm>
            <a:off x="1006560" y="55166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AgCl  :  143,3 g 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  :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16"/>
          <p:cNvSpPr/>
          <p:nvPr/>
        </p:nvSpPr>
        <p:spPr>
          <a:xfrm>
            <a:off x="1006560" y="602136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0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2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mg/dm</a:t>
            </a:r>
            <a:r>
              <a:rPr b="0" lang="sr-Latn-C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Ag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Object 17"/>
          <p:cNvGraphicFramePr/>
          <p:nvPr/>
        </p:nvGraphicFramePr>
        <p:xfrm>
          <a:off x="365040" y="2286000"/>
          <a:ext cx="492912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040" y="2286000"/>
                    <a:ext cx="49291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Box 4"/>
          <p:cNvSpPr/>
          <p:nvPr/>
        </p:nvSpPr>
        <p:spPr>
          <a:xfrm>
            <a:off x="0" y="112536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растворљивост (mol/L) Mg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раствору чија је pH вред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ко је производ растворљивос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6"/>
          <p:cNvSpPr/>
          <p:nvPr/>
        </p:nvSpPr>
        <p:spPr>
          <a:xfrm>
            <a:off x="365040" y="2857680"/>
            <a:ext cx="388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g(OH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5" name="Object 12"/>
          <p:cNvGraphicFramePr/>
          <p:nvPr/>
        </p:nvGraphicFramePr>
        <p:xfrm>
          <a:off x="639720" y="5540400"/>
          <a:ext cx="512604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540400"/>
                    <a:ext cx="51260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Object 5"/>
          <p:cNvGraphicFramePr/>
          <p:nvPr/>
        </p:nvGraphicFramePr>
        <p:xfrm>
          <a:off x="365040" y="2133720"/>
          <a:ext cx="53499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040" y="2133720"/>
                    <a:ext cx="5349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Rectangle 15"/>
          <p:cNvSpPr/>
          <p:nvPr/>
        </p:nvSpPr>
        <p:spPr>
          <a:xfrm>
            <a:off x="403560" y="3789360"/>
            <a:ext cx="1221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Object 6"/>
          <p:cNvGraphicFramePr/>
          <p:nvPr/>
        </p:nvGraphicFramePr>
        <p:xfrm>
          <a:off x="2260440" y="3789360"/>
          <a:ext cx="31035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0440" y="3789360"/>
                    <a:ext cx="31035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Object 7"/>
          <p:cNvGraphicFramePr/>
          <p:nvPr/>
        </p:nvGraphicFramePr>
        <p:xfrm>
          <a:off x="6084720" y="3789360"/>
          <a:ext cx="2735280" cy="4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3789360"/>
                    <a:ext cx="27352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Object 8"/>
          <p:cNvGraphicFramePr/>
          <p:nvPr/>
        </p:nvGraphicFramePr>
        <p:xfrm>
          <a:off x="5929200" y="2928960"/>
          <a:ext cx="283860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29200" y="2928960"/>
                    <a:ext cx="2838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6" name="TextBox 20"/>
          <p:cNvSpPr/>
          <p:nvPr/>
        </p:nvSpPr>
        <p:spPr>
          <a:xfrm>
            <a:off x="639720" y="4724280"/>
            <a:ext cx="51116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g(OH)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Mg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ight Arrow 21"/>
          <p:cNvSpPr/>
          <p:nvPr/>
        </p:nvSpPr>
        <p:spPr>
          <a:xfrm>
            <a:off x="1692360" y="4005360"/>
            <a:ext cx="358560" cy="712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ight Arrow 22"/>
          <p:cNvSpPr/>
          <p:nvPr/>
        </p:nvSpPr>
        <p:spPr>
          <a:xfrm>
            <a:off x="5508720" y="4005360"/>
            <a:ext cx="358560" cy="712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3"/>
          <p:cNvSpPr/>
          <p:nvPr/>
        </p:nvSpPr>
        <p:spPr>
          <a:xfrm>
            <a:off x="6405840" y="2071800"/>
            <a:ext cx="270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g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Box 1"/>
          <p:cNvSpPr/>
          <p:nvPr/>
        </p:nvSpPr>
        <p:spPr>
          <a:xfrm>
            <a:off x="539640" y="105264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заједничког јона на растворљивост тешко растворног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2"/>
          <p:cNvSpPr/>
          <p:nvPr/>
        </p:nvSpPr>
        <p:spPr>
          <a:xfrm>
            <a:off x="250920" y="522936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тешко растворног једињења у присуству заједничког јона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смањуј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2" name="Object 7"/>
          <p:cNvGraphicFramePr/>
          <p:nvPr/>
        </p:nvGraphicFramePr>
        <p:xfrm>
          <a:off x="1332000" y="3716280"/>
          <a:ext cx="601020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716280"/>
                    <a:ext cx="6010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4" name="TextBox 5"/>
          <p:cNvSpPr/>
          <p:nvPr/>
        </p:nvSpPr>
        <p:spPr>
          <a:xfrm>
            <a:off x="6012000" y="2421000"/>
            <a:ext cx="93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6"/>
          <p:cNvSpPr/>
          <p:nvPr/>
        </p:nvSpPr>
        <p:spPr>
          <a:xfrm>
            <a:off x="3564000" y="2421000"/>
            <a:ext cx="151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eft Arrow 7"/>
          <p:cNvSpPr/>
          <p:nvPr/>
        </p:nvSpPr>
        <p:spPr>
          <a:xfrm>
            <a:off x="2843280" y="4581360"/>
            <a:ext cx="2592360" cy="5032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Down Arrow Callout 10"/>
          <p:cNvSpPr/>
          <p:nvPr/>
        </p:nvSpPr>
        <p:spPr>
          <a:xfrm>
            <a:off x="3419640" y="2349360"/>
            <a:ext cx="1657080" cy="1224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Down Arrow Callout 12"/>
          <p:cNvSpPr/>
          <p:nvPr/>
        </p:nvSpPr>
        <p:spPr>
          <a:xfrm>
            <a:off x="5651640" y="2349360"/>
            <a:ext cx="1657080" cy="1224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TextBox 1"/>
          <p:cNvSpPr/>
          <p:nvPr/>
        </p:nvSpPr>
        <p:spPr>
          <a:xfrm>
            <a:off x="324000" y="9079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2"/>
          <p:cNvSpPr/>
          <p:nvPr/>
        </p:nvSpPr>
        <p:spPr>
          <a:xfrm>
            <a:off x="179280" y="1557360"/>
            <a:ext cx="8785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рачунати растворљивост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чистој води и у 0,01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. 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bI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,1 x 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3"/>
          <p:cNvSpPr/>
          <p:nvPr/>
        </p:nvSpPr>
        <p:spPr>
          <a:xfrm>
            <a:off x="639720" y="3336840"/>
            <a:ext cx="5286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b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 x (2S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6"/>
          <p:cNvSpPr/>
          <p:nvPr/>
        </p:nvSpPr>
        <p:spPr>
          <a:xfrm>
            <a:off x="6675480" y="25653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7"/>
          <p:cNvSpPr/>
          <p:nvPr/>
        </p:nvSpPr>
        <p:spPr>
          <a:xfrm>
            <a:off x="6675480" y="3141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8"/>
          <p:cNvSpPr/>
          <p:nvPr/>
        </p:nvSpPr>
        <p:spPr>
          <a:xfrm>
            <a:off x="639720" y="4076640"/>
            <a:ext cx="277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b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S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5" name="Object 5"/>
          <p:cNvGraphicFramePr/>
          <p:nvPr/>
        </p:nvGraphicFramePr>
        <p:xfrm>
          <a:off x="639720" y="4956120"/>
          <a:ext cx="422748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4956120"/>
                    <a:ext cx="422748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7" name="TextBox 11"/>
          <p:cNvSpPr/>
          <p:nvPr/>
        </p:nvSpPr>
        <p:spPr>
          <a:xfrm>
            <a:off x="6400800" y="5029200"/>
            <a:ext cx="164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8" name="Object 19"/>
          <p:cNvGraphicFramePr/>
          <p:nvPr/>
        </p:nvGraphicFramePr>
        <p:xfrm>
          <a:off x="639720" y="2637000"/>
          <a:ext cx="52596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720" y="2637000"/>
                    <a:ext cx="525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"/>
          <p:cNvSpPr/>
          <p:nvPr/>
        </p:nvSpPr>
        <p:spPr>
          <a:xfrm>
            <a:off x="179280" y="2529000"/>
            <a:ext cx="882036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јони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</a:t>
            </a:r>
            <a:r>
              <a:rPr b="0" lang="sr-Latn-CS" sz="23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</a:t>
            </a:r>
            <a:r>
              <a:rPr b="0" lang="sr-Latn-CS" sz="23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r</a:t>
            </a:r>
            <a:r>
              <a:rPr b="0" lang="sr-Latn-CS" sz="23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0" lang="sr-Latn-CS" sz="23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H</a:t>
            </a:r>
            <a:r>
              <a:rPr b="0" lang="sr-Latn-CS" sz="23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N</a:t>
            </a:r>
            <a:r>
              <a:rPr b="0" lang="sr-Latn-CS" sz="23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трални молекули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CO, NH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3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NO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озил катјон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42920" y="4797360"/>
            <a:ext cx="8605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ректно везани за јон метала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и електрона (Луисове базе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2357280" y="1857240"/>
            <a:ext cx="3889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7"/>
          <p:cNvSpPr/>
          <p:nvPr/>
        </p:nvSpPr>
        <p:spPr>
          <a:xfrm>
            <a:off x="3870360" y="1839960"/>
            <a:ext cx="793800" cy="7920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1874160" y="1071720"/>
            <a:ext cx="51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комплекса: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Box 2"/>
          <p:cNvSpPr/>
          <p:nvPr/>
        </p:nvSpPr>
        <p:spPr>
          <a:xfrm>
            <a:off x="2771640" y="20271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     →    Na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+    I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3"/>
          <p:cNvSpPr/>
          <p:nvPr/>
        </p:nvSpPr>
        <p:spPr>
          <a:xfrm>
            <a:off x="5643720" y="1000080"/>
            <a:ext cx="1285560" cy="16430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4"/>
          <p:cNvSpPr/>
          <p:nvPr/>
        </p:nvSpPr>
        <p:spPr>
          <a:xfrm>
            <a:off x="5429160" y="2714760"/>
            <a:ext cx="309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1 mol/dm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5"/>
          <p:cNvSpPr/>
          <p:nvPr/>
        </p:nvSpPr>
        <p:spPr>
          <a:xfrm>
            <a:off x="971640" y="3141720"/>
            <a:ext cx="3527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I) &gt;&gt;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b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6"/>
          <p:cNvSpPr/>
          <p:nvPr/>
        </p:nvSpPr>
        <p:spPr>
          <a:xfrm>
            <a:off x="971640" y="3933720"/>
            <a:ext cx="528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b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 x (0,01)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5" name="Object 4"/>
          <p:cNvGraphicFramePr/>
          <p:nvPr/>
        </p:nvGraphicFramePr>
        <p:xfrm>
          <a:off x="1096920" y="4832280"/>
          <a:ext cx="397512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4832280"/>
                    <a:ext cx="39751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7" name="TextBox 9"/>
          <p:cNvSpPr/>
          <p:nvPr/>
        </p:nvSpPr>
        <p:spPr>
          <a:xfrm>
            <a:off x="1096920" y="6021360"/>
            <a:ext cx="273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&gt; S(Na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8" name="Straight Arrow Connector 13"/>
          <p:cNvCxnSpPr/>
          <p:nvPr/>
        </p:nvCxnSpPr>
        <p:spPr>
          <a:xfrm flipH="1" flipV="1">
            <a:off x="2410920" y="1988280"/>
            <a:ext cx="1858320" cy="25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069" name="Object 11"/>
          <p:cNvGraphicFramePr/>
          <p:nvPr/>
        </p:nvGraphicFramePr>
        <p:xfrm>
          <a:off x="1258920" y="1235160"/>
          <a:ext cx="56167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235160"/>
                    <a:ext cx="56167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1" name="Rectangle 10"/>
          <p:cNvSpPr/>
          <p:nvPr/>
        </p:nvSpPr>
        <p:spPr>
          <a:xfrm>
            <a:off x="6405120" y="5029200"/>
            <a:ext cx="92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Box 2"/>
          <p:cNvSpPr/>
          <p:nvPr/>
        </p:nvSpPr>
        <p:spPr>
          <a:xfrm>
            <a:off x="182520" y="1285920"/>
            <a:ext cx="882036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рачунати растворљивост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чистој води и у раствору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l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10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3"/>
          <p:cNvSpPr/>
          <p:nvPr/>
        </p:nvSpPr>
        <p:spPr>
          <a:xfrm>
            <a:off x="639720" y="3657600"/>
            <a:ext cx="6408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 x (2S)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S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6"/>
          <p:cNvSpPr/>
          <p:nvPr/>
        </p:nvSpPr>
        <p:spPr>
          <a:xfrm>
            <a:off x="7358040" y="3475080"/>
            <a:ext cx="1643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11"/>
          <p:cNvSpPr/>
          <p:nvPr/>
        </p:nvSpPr>
        <p:spPr>
          <a:xfrm>
            <a:off x="6400800" y="5029200"/>
            <a:ext cx="164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6" name="Object 12"/>
          <p:cNvGraphicFramePr/>
          <p:nvPr/>
        </p:nvGraphicFramePr>
        <p:xfrm>
          <a:off x="557280" y="4613400"/>
          <a:ext cx="54910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613400"/>
                    <a:ext cx="54910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8" name="Object 18"/>
          <p:cNvGraphicFramePr/>
          <p:nvPr/>
        </p:nvGraphicFramePr>
        <p:xfrm>
          <a:off x="639720" y="2835360"/>
          <a:ext cx="6335640" cy="4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720" y="2835360"/>
                    <a:ext cx="63356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51280" y="476280"/>
            <a:ext cx="136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4"/>
          <p:cNvSpPr/>
          <p:nvPr/>
        </p:nvSpPr>
        <p:spPr>
          <a:xfrm>
            <a:off x="5508720" y="2781360"/>
            <a:ext cx="316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5"/>
          <p:cNvSpPr/>
          <p:nvPr/>
        </p:nvSpPr>
        <p:spPr>
          <a:xfrm>
            <a:off x="639720" y="3357720"/>
            <a:ext cx="468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l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&gt;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3"/>
          <p:cNvSpPr/>
          <p:nvPr/>
        </p:nvSpPr>
        <p:spPr>
          <a:xfrm>
            <a:off x="639720" y="4005360"/>
            <a:ext cx="69134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(2S)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8S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4" name="Object 12"/>
          <p:cNvGraphicFramePr/>
          <p:nvPr/>
        </p:nvGraphicFramePr>
        <p:xfrm>
          <a:off x="822240" y="5000760"/>
          <a:ext cx="372924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5000760"/>
                    <a:ext cx="37292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TextBox 11"/>
          <p:cNvSpPr/>
          <p:nvPr/>
        </p:nvSpPr>
        <p:spPr>
          <a:xfrm>
            <a:off x="5851440" y="5303880"/>
            <a:ext cx="30974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Cl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4"/>
          <p:cNvSpPr/>
          <p:nvPr/>
        </p:nvSpPr>
        <p:spPr>
          <a:xfrm flipH="1">
            <a:off x="2050920" y="1268280"/>
            <a:ext cx="208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8" name="Object 13"/>
          <p:cNvGraphicFramePr/>
          <p:nvPr/>
        </p:nvGraphicFramePr>
        <p:xfrm>
          <a:off x="1476360" y="1268280"/>
          <a:ext cx="61070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268280"/>
                    <a:ext cx="6107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0" name="Object 14"/>
          <p:cNvGraphicFramePr/>
          <p:nvPr/>
        </p:nvGraphicFramePr>
        <p:xfrm>
          <a:off x="1913040" y="2060640"/>
          <a:ext cx="54673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13040" y="2060640"/>
                    <a:ext cx="5467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2" name="Oval 12"/>
          <p:cNvSpPr/>
          <p:nvPr/>
        </p:nvSpPr>
        <p:spPr>
          <a:xfrm>
            <a:off x="4356000" y="1052640"/>
            <a:ext cx="1511280" cy="172872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250920" y="981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страног јона на растворљивост тешко растворног једињења – сони ефе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2"/>
          <p:cNvSpPr/>
          <p:nvPr/>
        </p:nvSpPr>
        <p:spPr>
          <a:xfrm>
            <a:off x="76320" y="2052720"/>
            <a:ext cx="89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тешко растворног једињењ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се његовом раствору дода електролит који са њим нема заједнички јон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и ефека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5" name="Object 3"/>
          <p:cNvGraphicFramePr/>
          <p:nvPr/>
        </p:nvGraphicFramePr>
        <p:xfrm>
          <a:off x="1835280" y="2997360"/>
          <a:ext cx="4628880" cy="4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997360"/>
                    <a:ext cx="462888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7" name="TextBox 5"/>
          <p:cNvSpPr/>
          <p:nvPr/>
        </p:nvSpPr>
        <p:spPr>
          <a:xfrm>
            <a:off x="2411280" y="3500280"/>
            <a:ext cx="2808360" cy="5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М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А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6"/>
          <p:cNvSpPr/>
          <p:nvPr/>
        </p:nvSpPr>
        <p:spPr>
          <a:xfrm>
            <a:off x="468360" y="4076640"/>
            <a:ext cx="7848720" cy="5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l-GR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1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ɑ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+ 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ɑ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-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М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+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А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М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А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+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1"/>
          <p:cNvSpPr/>
          <p:nvPr/>
        </p:nvSpPr>
        <p:spPr>
          <a:xfrm>
            <a:off x="52560" y="49150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у раствор тешко растворне соли дода електролит који нема заједнички јон са талог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2"/>
          <p:cNvSpPr/>
          <p:nvPr/>
        </p:nvSpPr>
        <p:spPr>
          <a:xfrm>
            <a:off x="1187280" y="5634000"/>
            <a:ext cx="568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 јонска сила раств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 се коефицијент активитета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 концентрација јона М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1" name="Object 12"/>
          <p:cNvGraphicFramePr/>
          <p:nvPr/>
        </p:nvGraphicFramePr>
        <p:xfrm>
          <a:off x="6572160" y="5715000"/>
          <a:ext cx="228780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72160" y="5715000"/>
                    <a:ext cx="2287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Box 3"/>
          <p:cNvSpPr/>
          <p:nvPr/>
        </p:nvSpPr>
        <p:spPr>
          <a:xfrm>
            <a:off x="139680" y="765000"/>
            <a:ext cx="8535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растворљивост AgCl у 0,1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раствору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gCl) = 1,7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Box 1"/>
          <p:cNvSpPr/>
          <p:nvPr/>
        </p:nvSpPr>
        <p:spPr>
          <a:xfrm>
            <a:off x="250920" y="3141720"/>
            <a:ext cx="86421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g+</a:t>
            </a:r>
            <a:r>
              <a:rPr b="0" lang="sr-R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l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еларне вредности и за = 0,1 имају вредност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g+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75 и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l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179280" y="2637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½ (0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½ (0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4"/>
          <p:cNvSpPr/>
          <p:nvPr/>
        </p:nvSpPr>
        <p:spPr>
          <a:xfrm>
            <a:off x="2556000" y="4149720"/>
            <a:ext cx="3060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gCl)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g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5"/>
          <p:cNvSpPr/>
          <p:nvPr/>
        </p:nvSpPr>
        <p:spPr>
          <a:xfrm>
            <a:off x="1908000" y="4724280"/>
            <a:ext cx="4537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l-G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(AgCl)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s(AgCl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g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l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8" name="Object 17"/>
          <p:cNvGraphicFramePr/>
          <p:nvPr/>
        </p:nvGraphicFramePr>
        <p:xfrm>
          <a:off x="2484360" y="2205000"/>
          <a:ext cx="366408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205000"/>
                    <a:ext cx="36640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0" name="Object 5"/>
          <p:cNvGraphicFramePr/>
          <p:nvPr/>
        </p:nvGraphicFramePr>
        <p:xfrm>
          <a:off x="324000" y="5516640"/>
          <a:ext cx="852012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516640"/>
                    <a:ext cx="85201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Box 1"/>
          <p:cNvSpPr/>
          <p:nvPr/>
        </p:nvSpPr>
        <p:spPr>
          <a:xfrm>
            <a:off x="324000" y="9540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споредних реакција на растворљив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ловни производ растворљ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2"/>
          <p:cNvSpPr/>
          <p:nvPr/>
        </p:nvSpPr>
        <p:spPr>
          <a:xfrm>
            <a:off x="54000" y="1989000"/>
            <a:ext cx="90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других супстанци у раствору, које могу реаговати са јонима тешко растворног једињења, утицаће на смањење њихове концентрације – помераће се равнотежна реакција у смеру повећања растворљивости тог једиње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3"/>
          <p:cNvSpPr/>
          <p:nvPr/>
        </p:nvSpPr>
        <p:spPr>
          <a:xfrm>
            <a:off x="0" y="4470480"/>
            <a:ext cx="91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споредних реакција на основни процес растварања талога може се одредити увођењем условног (реалног) производа растворљив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3"/>
          <p:cNvSpPr/>
          <p:nvPr/>
        </p:nvSpPr>
        <p:spPr>
          <a:xfrm>
            <a:off x="200160" y="5767560"/>
            <a:ext cx="885636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`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овни (реални) производ растворљив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`] и [А`] - укупне концентрације свих растворених честица које садрже М или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6" name="Object 8"/>
          <p:cNvGraphicFramePr/>
          <p:nvPr/>
        </p:nvGraphicFramePr>
        <p:xfrm>
          <a:off x="2771640" y="3211560"/>
          <a:ext cx="301968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11560"/>
                    <a:ext cx="30196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8" name="Object 9"/>
          <p:cNvGraphicFramePr/>
          <p:nvPr/>
        </p:nvGraphicFramePr>
        <p:xfrm>
          <a:off x="3446640" y="5300640"/>
          <a:ext cx="193356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5300640"/>
                    <a:ext cx="19335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Box 1"/>
          <p:cNvSpPr/>
          <p:nvPr/>
        </p:nvSpPr>
        <p:spPr>
          <a:xfrm>
            <a:off x="65160" y="1076400"/>
            <a:ext cx="863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чунавање условног производа растворљивости примењују се коефицијенти споредних реакција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1" name="Object 4"/>
          <p:cNvGraphicFramePr/>
          <p:nvPr/>
        </p:nvGraphicFramePr>
        <p:xfrm>
          <a:off x="2689200" y="1989000"/>
          <a:ext cx="339084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1989000"/>
                    <a:ext cx="339084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Object 5"/>
          <p:cNvGraphicFramePr/>
          <p:nvPr/>
        </p:nvGraphicFramePr>
        <p:xfrm>
          <a:off x="2771640" y="2933640"/>
          <a:ext cx="329112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2933640"/>
                    <a:ext cx="3291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Object 6"/>
          <p:cNvGraphicFramePr/>
          <p:nvPr/>
        </p:nvGraphicFramePr>
        <p:xfrm>
          <a:off x="1619280" y="3941640"/>
          <a:ext cx="567036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3941640"/>
                    <a:ext cx="5670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TextBox 7"/>
          <p:cNvSpPr/>
          <p:nvPr/>
        </p:nvSpPr>
        <p:spPr>
          <a:xfrm>
            <a:off x="65160" y="5013360"/>
            <a:ext cx="893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(нема споредних реакција) → K`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`А`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1"/>
          <p:cNvSpPr/>
          <p:nvPr/>
        </p:nvSpPr>
        <p:spPr>
          <a:xfrm>
            <a:off x="95400" y="5722920"/>
            <a:ext cx="89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утицајем споредних реакција повећава се растворљивост талога – условни (реални) производ растворљ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Box 2"/>
          <p:cNvSpPr/>
          <p:nvPr/>
        </p:nvSpPr>
        <p:spPr>
          <a:xfrm>
            <a:off x="2627280" y="981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акционо талож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1"/>
          <p:cNvSpPr/>
          <p:nvPr/>
        </p:nvSpPr>
        <p:spPr>
          <a:xfrm>
            <a:off x="108000" y="1571760"/>
            <a:ext cx="89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у да два јона граде са трећим јоном тешко растворна једињења која се знатно разликују по растворљивости, могуће је та два јона одвојити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фракционим таложењ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2"/>
          <p:cNvSpPr/>
          <p:nvPr/>
        </p:nvSpPr>
        <p:spPr>
          <a:xfrm>
            <a:off x="108000" y="2973240"/>
            <a:ext cx="899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у раствору имамо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е који са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ом граде тешко растворна једињења, прво се таложи онај јон који гради теже растворну со (тј. има мању вредност производа растворљив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639720" y="4725720"/>
            <a:ext cx="496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‾ + I‾ +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Cl ↓  +   AgI↓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5"/>
          <p:cNvSpPr/>
          <p:nvPr/>
        </p:nvSpPr>
        <p:spPr>
          <a:xfrm>
            <a:off x="639720" y="5300640"/>
            <a:ext cx="3429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AgCl)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6"/>
          <p:cNvSpPr/>
          <p:nvPr/>
        </p:nvSpPr>
        <p:spPr>
          <a:xfrm>
            <a:off x="639720" y="5805360"/>
            <a:ext cx="3429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A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3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Box 1"/>
          <p:cNvSpPr/>
          <p:nvPr/>
        </p:nvSpPr>
        <p:spPr>
          <a:xfrm>
            <a:off x="217440" y="1484280"/>
            <a:ext cx="88916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 се таложи AgI јер је за његово таложење потребна мања концентрација Ag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(нижа вредност К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"/>
          <p:cNvSpPr/>
          <p:nvPr/>
        </p:nvSpPr>
        <p:spPr>
          <a:xfrm>
            <a:off x="324000" y="4292640"/>
            <a:ext cx="849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почиње таложење тек када је концентрација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‾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2,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та мања од концентрације Cl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4"/>
          <p:cNvSpPr/>
          <p:nvPr/>
        </p:nvSpPr>
        <p:spPr>
          <a:xfrm>
            <a:off x="250920" y="5373720"/>
            <a:ext cx="849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кционо се таложе сви хидроксиди, сулфиди, карбонати и оксала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718848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Box 1"/>
          <p:cNvSpPr/>
          <p:nvPr/>
        </p:nvSpPr>
        <p:spPr>
          <a:xfrm>
            <a:off x="1692360" y="1052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акционо таложење хидрокс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3"/>
          <p:cNvSpPr/>
          <p:nvPr/>
        </p:nvSpPr>
        <p:spPr>
          <a:xfrm>
            <a:off x="900000" y="2492280"/>
            <a:ext cx="64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О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чиње таложе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4"/>
          <p:cNvSpPr/>
          <p:nvPr/>
        </p:nvSpPr>
        <p:spPr>
          <a:xfrm>
            <a:off x="250920" y="3767040"/>
            <a:ext cx="8642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 су у директној вези са 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има → може се одредити pH при коме почиње таложење, као и pH при коме је таложење потпуно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тативно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4"/>
          <p:cNvSpPr/>
          <p:nvPr/>
        </p:nvSpPr>
        <p:spPr>
          <a:xfrm>
            <a:off x="755640" y="3429000"/>
            <a:ext cx="5977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и лиган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и за метал преко једног донор атом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5"/>
          <p:cNvSpPr/>
          <p:nvPr/>
        </p:nvSpPr>
        <p:spPr>
          <a:xfrm>
            <a:off x="971640" y="5013360"/>
            <a:ext cx="7272360" cy="11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: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sr-Latn-CS" sz="24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Br</a:t>
            </a:r>
            <a:r>
              <a:rPr b="1" lang="sr-Latn-CS" sz="24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I</a:t>
            </a:r>
            <a:r>
              <a:rPr b="1" lang="sr-Latn-CS" sz="24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CN</a:t>
            </a:r>
            <a:r>
              <a:rPr b="1" lang="sr-Latn-CS" sz="24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6"/>
          <p:cNvSpPr/>
          <p:nvPr/>
        </p:nvSpPr>
        <p:spPr>
          <a:xfrm flipH="1">
            <a:off x="1928520" y="528624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755640" y="1268280"/>
            <a:ext cx="46083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 могу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и ли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лидентатни ли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Box 1"/>
          <p:cNvSpPr/>
          <p:nvPr/>
        </p:nvSpPr>
        <p:spPr>
          <a:xfrm>
            <a:off x="276120" y="620640"/>
            <a:ext cx="8688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при којој вредности почиње таложење Mg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 којој је ово таложење квантитати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2"/>
          <p:cNvSpPr/>
          <p:nvPr/>
        </p:nvSpPr>
        <p:spPr>
          <a:xfrm>
            <a:off x="6572160" y="1857240"/>
            <a:ext cx="2417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g(OH)</a:t>
            </a:r>
            <a:r>
              <a:rPr b="0" lang="en-US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6"/>
          <p:cNvSpPr/>
          <p:nvPr/>
        </p:nvSpPr>
        <p:spPr>
          <a:xfrm>
            <a:off x="1547640" y="4005360"/>
            <a:ext cx="1470240" cy="54612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2"/>
              <p:cNvSpPr txBox="1"/>
              <p:nvPr/>
            </p:nvSpPr>
            <p:spPr>
              <a:xfrm>
                <a:off x="2714760" y="1857240"/>
                <a:ext cx="2651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6" name="Rectangle 5"/>
          <p:cNvSpPr/>
          <p:nvPr/>
        </p:nvSpPr>
        <p:spPr>
          <a:xfrm>
            <a:off x="3975480" y="24638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7" name="Object 3"/>
              <p:cNvSpPr txBox="1"/>
              <p:nvPr/>
            </p:nvSpPr>
            <p:spPr>
              <a:xfrm>
                <a:off x="3116160" y="2392200"/>
                <a:ext cx="951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48" name="Object 4"/>
          <p:cNvGraphicFramePr/>
          <p:nvPr/>
        </p:nvGraphicFramePr>
        <p:xfrm>
          <a:off x="1785960" y="3071880"/>
          <a:ext cx="40514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071880"/>
                    <a:ext cx="40514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0" name="TextBox 8"/>
          <p:cNvSpPr/>
          <p:nvPr/>
        </p:nvSpPr>
        <p:spPr>
          <a:xfrm>
            <a:off x="1609560" y="4017960"/>
            <a:ext cx="41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10,4   - почиње талож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ight Arrow 9"/>
          <p:cNvSpPr/>
          <p:nvPr/>
        </p:nvSpPr>
        <p:spPr>
          <a:xfrm>
            <a:off x="684360" y="4119480"/>
            <a:ext cx="576000" cy="25884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5871600" y="3286080"/>
            <a:ext cx="113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l/dm</a:t>
            </a:r>
            <a:r>
              <a:rPr b="0" lang="en-US" sz="2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2"/>
          <p:cNvSpPr/>
          <p:nvPr/>
        </p:nvSpPr>
        <p:spPr>
          <a:xfrm>
            <a:off x="179280" y="46227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вантитативно истало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4" name="Object 13"/>
          <p:cNvGraphicFramePr/>
          <p:nvPr/>
        </p:nvGraphicFramePr>
        <p:xfrm>
          <a:off x="1763640" y="5157720"/>
          <a:ext cx="57070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5157720"/>
                    <a:ext cx="5707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6" name="Rectangle 6"/>
          <p:cNvSpPr/>
          <p:nvPr/>
        </p:nvSpPr>
        <p:spPr>
          <a:xfrm>
            <a:off x="1547640" y="6281640"/>
            <a:ext cx="1473480" cy="46044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8"/>
          <p:cNvSpPr/>
          <p:nvPr/>
        </p:nvSpPr>
        <p:spPr>
          <a:xfrm>
            <a:off x="1598760" y="623736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12,4   - квантитативно истало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ight Arrow 16"/>
          <p:cNvSpPr/>
          <p:nvPr/>
        </p:nvSpPr>
        <p:spPr>
          <a:xfrm>
            <a:off x="539640" y="6291360"/>
            <a:ext cx="719280" cy="306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17"/>
          <p:cNvSpPr/>
          <p:nvPr/>
        </p:nvSpPr>
        <p:spPr>
          <a:xfrm>
            <a:off x="262440" y="2421000"/>
            <a:ext cx="301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иње таложење:</a:t>
            </a:r>
            <a:r>
              <a:rPr b="1" lang="sr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18"/>
          <p:cNvSpPr/>
          <p:nvPr/>
        </p:nvSpPr>
        <p:spPr>
          <a:xfrm>
            <a:off x="5034240" y="462276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Object 14"/>
              <p:cNvSpPr txBox="1"/>
              <p:nvPr/>
            </p:nvSpPr>
            <p:spPr>
              <a:xfrm>
                <a:off x="4176720" y="4551480"/>
                <a:ext cx="950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4"/>
          <p:cNvSpPr/>
          <p:nvPr/>
        </p:nvSpPr>
        <p:spPr>
          <a:xfrm>
            <a:off x="2916360" y="981000"/>
            <a:ext cx="352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жење сулф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5"/>
          <p:cNvSpPr/>
          <p:nvPr/>
        </p:nvSpPr>
        <p:spPr>
          <a:xfrm>
            <a:off x="639720" y="3424320"/>
            <a:ext cx="381636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sr-Latn-C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S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‾+ 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sr-Latn-C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7"/>
          <p:cNvSpPr/>
          <p:nvPr/>
        </p:nvSpPr>
        <p:spPr>
          <a:xfrm>
            <a:off x="0" y="288432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5" name="Object 2"/>
              <p:cNvSpPr txBox="1"/>
              <p:nvPr/>
            </p:nvSpPr>
            <p:spPr>
              <a:xfrm>
                <a:off x="539640" y="4470480"/>
                <a:ext cx="27640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S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Rectangle 9"/>
          <p:cNvSpPr/>
          <p:nvPr/>
        </p:nvSpPr>
        <p:spPr>
          <a:xfrm>
            <a:off x="0" y="287496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Object 3"/>
              <p:cNvSpPr txBox="1"/>
              <p:nvPr/>
            </p:nvSpPr>
            <p:spPr>
              <a:xfrm>
                <a:off x="684360" y="5549760"/>
                <a:ext cx="27241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S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8" name="Rectangle 5"/>
          <p:cNvSpPr/>
          <p:nvPr/>
        </p:nvSpPr>
        <p:spPr>
          <a:xfrm>
            <a:off x="0" y="-29196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Object 4"/>
              <p:cNvSpPr txBox="1"/>
              <p:nvPr/>
            </p:nvSpPr>
            <p:spPr>
              <a:xfrm>
                <a:off x="4716360" y="4325760"/>
                <a:ext cx="3238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0" name="Right Arrow 11"/>
          <p:cNvSpPr/>
          <p:nvPr/>
        </p:nvSpPr>
        <p:spPr>
          <a:xfrm>
            <a:off x="3851280" y="47577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7"/>
          <p:cNvSpPr/>
          <p:nvPr/>
        </p:nvSpPr>
        <p:spPr>
          <a:xfrm>
            <a:off x="0" y="-29196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Object 5"/>
              <p:cNvSpPr txBox="1"/>
              <p:nvPr/>
            </p:nvSpPr>
            <p:spPr>
              <a:xfrm>
                <a:off x="4932360" y="5478480"/>
                <a:ext cx="32180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3" name="Right Arrow 14"/>
          <p:cNvSpPr/>
          <p:nvPr/>
        </p:nvSpPr>
        <p:spPr>
          <a:xfrm>
            <a:off x="3851280" y="5837400"/>
            <a:ext cx="504720" cy="21564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5"/>
          <p:cNvSpPr/>
          <p:nvPr/>
        </p:nvSpPr>
        <p:spPr>
          <a:xfrm>
            <a:off x="0" y="1427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вајање јона метала таложењем у облику сулфида представља пример метода раздвајања код којих се контролисана концентрација таложног анјона одржава регулисањем концентрације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у раств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16"/>
          <p:cNvSpPr/>
          <p:nvPr/>
        </p:nvSpPr>
        <p:spPr>
          <a:xfrm>
            <a:off x="639720" y="2997360"/>
            <a:ext cx="4969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слаба двобазна кисел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6" name="Object 2"/>
              <p:cNvSpPr txBox="1"/>
              <p:nvPr/>
            </p:nvSpPr>
            <p:spPr>
              <a:xfrm>
                <a:off x="611280" y="981000"/>
                <a:ext cx="3281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Object 3"/>
              <p:cNvSpPr txBox="1"/>
              <p:nvPr/>
            </p:nvSpPr>
            <p:spPr>
              <a:xfrm>
                <a:off x="5076720" y="1052640"/>
                <a:ext cx="298944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8" name="Right Arrow 7"/>
          <p:cNvSpPr/>
          <p:nvPr/>
        </p:nvSpPr>
        <p:spPr>
          <a:xfrm>
            <a:off x="4067280" y="1557360"/>
            <a:ext cx="576000" cy="71280"/>
          </a:xfrm>
          <a:prstGeom prst="rightArrow">
            <a:avLst>
              <a:gd name="adj1" fmla="val 50000"/>
              <a:gd name="adj2" fmla="val 500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4"/>
          <p:cNvSpPr/>
          <p:nvPr/>
        </p:nvSpPr>
        <p:spPr>
          <a:xfrm>
            <a:off x="108000" y="2205000"/>
            <a:ext cx="9036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зависи од 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, односно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же pH вредности        ниска концентрација [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таложе с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иди мале вредноси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е pH вредности        виша концентрација [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таложе с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фиди више вредноси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5"/>
          <p:cNvSpPr/>
          <p:nvPr/>
        </p:nvSpPr>
        <p:spPr>
          <a:xfrm>
            <a:off x="76320" y="4581360"/>
            <a:ext cx="70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сањем pH врши се одвајање катј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ight Arrow 11"/>
          <p:cNvSpPr/>
          <p:nvPr/>
        </p:nvSpPr>
        <p:spPr>
          <a:xfrm>
            <a:off x="2647800" y="5232240"/>
            <a:ext cx="13575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7"/>
          <p:cNvSpPr/>
          <p:nvPr/>
        </p:nvSpPr>
        <p:spPr>
          <a:xfrm>
            <a:off x="3157560" y="534816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8"/>
          <p:cNvSpPr/>
          <p:nvPr/>
        </p:nvSpPr>
        <p:spPr>
          <a:xfrm>
            <a:off x="4066920" y="514512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, IV и V аналитичк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Down Arrow 14"/>
          <p:cNvSpPr/>
          <p:nvPr/>
        </p:nvSpPr>
        <p:spPr>
          <a:xfrm>
            <a:off x="2611440" y="5445000"/>
            <a:ext cx="214200" cy="1071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11"/>
          <p:cNvSpPr/>
          <p:nvPr/>
        </p:nvSpPr>
        <p:spPr>
          <a:xfrm>
            <a:off x="2270160" y="55562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12"/>
          <p:cNvSpPr/>
          <p:nvPr/>
        </p:nvSpPr>
        <p:spPr>
          <a:xfrm>
            <a:off x="1949040" y="637056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аналитичк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7" name="Straight Arrow Connector 2"/>
          <p:cNvCxnSpPr/>
          <p:nvPr/>
        </p:nvCxnSpPr>
        <p:spPr>
          <a:xfrm>
            <a:off x="3035160" y="3212640"/>
            <a:ext cx="393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8" name="Straight Arrow Connector 17"/>
          <p:cNvCxnSpPr/>
          <p:nvPr/>
        </p:nvCxnSpPr>
        <p:spPr>
          <a:xfrm>
            <a:off x="7132320" y="3200040"/>
            <a:ext cx="392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9" name="Straight Arrow Connector 18"/>
          <p:cNvCxnSpPr/>
          <p:nvPr/>
        </p:nvCxnSpPr>
        <p:spPr>
          <a:xfrm>
            <a:off x="3035160" y="3933360"/>
            <a:ext cx="393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0" name="Straight Arrow Connector 19"/>
          <p:cNvCxnSpPr/>
          <p:nvPr/>
        </p:nvCxnSpPr>
        <p:spPr>
          <a:xfrm>
            <a:off x="7132320" y="3928680"/>
            <a:ext cx="392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6"/>
          <p:cNvSpPr/>
          <p:nvPr/>
        </p:nvSpPr>
        <p:spPr>
          <a:xfrm>
            <a:off x="539640" y="6159240"/>
            <a:ext cx="79200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2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sr-Latn-C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dS</a:t>
            </a:r>
            <a:r>
              <a:rPr b="1" lang="sr-Latn-C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H</a:t>
            </a:r>
            <a:r>
              <a:rPr b="1" lang="sr-Latn-CS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5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Box 2"/>
          <p:cNvSpPr/>
          <p:nvPr/>
        </p:nvSpPr>
        <p:spPr>
          <a:xfrm>
            <a:off x="182520" y="857160"/>
            <a:ext cx="874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јање сулфида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таложи последњи из II групе, а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ви из III групе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3" name="Object 2"/>
              <p:cNvSpPr txBox="1"/>
              <p:nvPr/>
            </p:nvSpPr>
            <p:spPr>
              <a:xfrm>
                <a:off x="639720" y="2924280"/>
                <a:ext cx="4753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,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,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94" name="TextBox 4"/>
          <p:cNvSpPr/>
          <p:nvPr/>
        </p:nvSpPr>
        <p:spPr>
          <a:xfrm>
            <a:off x="6656400" y="1928880"/>
            <a:ext cx="2487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dS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6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5" name="Object 4"/>
              <p:cNvSpPr txBox="1"/>
              <p:nvPr/>
            </p:nvSpPr>
            <p:spPr>
              <a:xfrm>
                <a:off x="639720" y="3808440"/>
                <a:ext cx="2592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2</m:t>
                            </m:r>
                          </m:sub>
                        </m:sSub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Object 5"/>
              <p:cNvSpPr txBox="1"/>
              <p:nvPr/>
            </p:nvSpPr>
            <p:spPr>
              <a:xfrm>
                <a:off x="639720" y="4797360"/>
                <a:ext cx="4103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,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,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6"/>
              <p:cNvSpPr txBox="1"/>
              <p:nvPr/>
            </p:nvSpPr>
            <p:spPr>
              <a:xfrm>
                <a:off x="1763640" y="5711760"/>
                <a:ext cx="2737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,4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/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98" name="Rectangle 12"/>
          <p:cNvSpPr/>
          <p:nvPr/>
        </p:nvSpPr>
        <p:spPr>
          <a:xfrm>
            <a:off x="5443560" y="5661000"/>
            <a:ext cx="14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ight Arrow 13"/>
          <p:cNvSpPr/>
          <p:nvPr/>
        </p:nvSpPr>
        <p:spPr>
          <a:xfrm>
            <a:off x="3851280" y="5661000"/>
            <a:ext cx="792000" cy="144360"/>
          </a:xfrm>
          <a:prstGeom prst="rightArrow">
            <a:avLst>
              <a:gd name="adj1" fmla="val 50000"/>
              <a:gd name="adj2" fmla="val 500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Object 15"/>
          <p:cNvGraphicFramePr/>
          <p:nvPr/>
        </p:nvGraphicFramePr>
        <p:xfrm>
          <a:off x="4786200" y="2000160"/>
          <a:ext cx="166068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2000160"/>
                    <a:ext cx="16606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2" name="TextBox 12"/>
          <p:cNvSpPr/>
          <p:nvPr/>
        </p:nvSpPr>
        <p:spPr>
          <a:xfrm>
            <a:off x="0" y="2421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вантитативно таложе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3" name="Object 14"/>
              <p:cNvSpPr txBox="1"/>
              <p:nvPr/>
            </p:nvSpPr>
            <p:spPr>
              <a:xfrm>
                <a:off x="4140360" y="2349360"/>
                <a:ext cx="31082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/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4" name="Right Arrow 17"/>
          <p:cNvSpPr/>
          <p:nvPr/>
        </p:nvSpPr>
        <p:spPr>
          <a:xfrm>
            <a:off x="4716360" y="5805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TextBox 1"/>
          <p:cNvSpPr/>
          <p:nvPr/>
        </p:nvSpPr>
        <p:spPr>
          <a:xfrm>
            <a:off x="6357960" y="1571760"/>
            <a:ext cx="242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(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nS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Object 2"/>
              <p:cNvSpPr txBox="1"/>
              <p:nvPr/>
            </p:nvSpPr>
            <p:spPr>
              <a:xfrm>
                <a:off x="1174680" y="1978200"/>
                <a:ext cx="3467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n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Object 3"/>
              <p:cNvSpPr txBox="1"/>
              <p:nvPr/>
            </p:nvSpPr>
            <p:spPr>
              <a:xfrm>
                <a:off x="1187280" y="3057480"/>
                <a:ext cx="1859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2</m:t>
                            </m:r>
                          </m:sub>
                        </m:sSub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Object 4"/>
              <p:cNvSpPr txBox="1"/>
              <p:nvPr/>
            </p:nvSpPr>
            <p:spPr>
              <a:xfrm>
                <a:off x="1116000" y="4210200"/>
                <a:ext cx="3052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,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,7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,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9" name="TextBox 5"/>
          <p:cNvSpPr/>
          <p:nvPr/>
        </p:nvSpPr>
        <p:spPr>
          <a:xfrm>
            <a:off x="250920" y="1052640"/>
            <a:ext cx="619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е при овим условима таложи Z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0" name="Object 5"/>
              <p:cNvSpPr txBox="1"/>
              <p:nvPr/>
            </p:nvSpPr>
            <p:spPr>
              <a:xfrm>
                <a:off x="971640" y="5218200"/>
                <a:ext cx="2879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,07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/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1" name="Rectangle 8"/>
          <p:cNvSpPr/>
          <p:nvPr/>
        </p:nvSpPr>
        <p:spPr>
          <a:xfrm>
            <a:off x="5229000" y="5245200"/>
            <a:ext cx="145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ight Arrow 9"/>
          <p:cNvSpPr/>
          <p:nvPr/>
        </p:nvSpPr>
        <p:spPr>
          <a:xfrm>
            <a:off x="3851280" y="5433840"/>
            <a:ext cx="792000" cy="144720"/>
          </a:xfrm>
          <a:prstGeom prst="rightArrow">
            <a:avLst>
              <a:gd name="adj1" fmla="val 50000"/>
              <a:gd name="adj2" fmla="val 49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10"/>
          <p:cNvSpPr/>
          <p:nvPr/>
        </p:nvSpPr>
        <p:spPr>
          <a:xfrm>
            <a:off x="108000" y="5805360"/>
            <a:ext cx="896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ће почети таложење при квантитативном таложењу Cd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[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0,44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ight Arrow 11"/>
          <p:cNvSpPr/>
          <p:nvPr/>
        </p:nvSpPr>
        <p:spPr>
          <a:xfrm>
            <a:off x="4500720" y="5433840"/>
            <a:ext cx="431640" cy="14472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395280" y="981000"/>
            <a:ext cx="84963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дентатни лиганд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елатни лиганди, хелатни аген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ују с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ета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више од једног донор атом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 молекул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-, три-, квадри-, пента-, хексадентатни лиганд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Object 13"/>
          <p:cNvGraphicFramePr/>
          <p:nvPr/>
        </p:nvGraphicFramePr>
        <p:xfrm>
          <a:off x="2124000" y="4853160"/>
          <a:ext cx="3527640" cy="14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853160"/>
                    <a:ext cx="35276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Rectangle 3"/>
          <p:cNvSpPr/>
          <p:nvPr/>
        </p:nvSpPr>
        <p:spPr>
          <a:xfrm>
            <a:off x="4001400" y="5373720"/>
            <a:ext cx="2014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лиг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571680" y="42148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 лиг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395280" y="1197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 лиганд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дентатни лиг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Object 3"/>
          <p:cNvGraphicFramePr/>
          <p:nvPr/>
        </p:nvGraphicFramePr>
        <p:xfrm>
          <a:off x="179280" y="2133720"/>
          <a:ext cx="3240360" cy="108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133720"/>
                    <a:ext cx="324036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Object 4"/>
          <p:cNvGraphicFramePr/>
          <p:nvPr/>
        </p:nvGraphicFramePr>
        <p:xfrm>
          <a:off x="3780000" y="2276640"/>
          <a:ext cx="5219640" cy="98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276640"/>
                    <a:ext cx="5219640" cy="98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Rectangle 5"/>
          <p:cNvSpPr/>
          <p:nvPr/>
        </p:nvSpPr>
        <p:spPr>
          <a:xfrm>
            <a:off x="418680" y="3657600"/>
            <a:ext cx="23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диамин (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4545720" y="365760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тилентриамин (d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7"/>
          <p:cNvSpPr/>
          <p:nvPr/>
        </p:nvSpPr>
        <p:spPr>
          <a:xfrm flipV="1">
            <a:off x="393840" y="3159000"/>
            <a:ext cx="7272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8"/>
          <p:cNvSpPr/>
          <p:nvPr/>
        </p:nvSpPr>
        <p:spPr>
          <a:xfrm flipH="1" flipV="1">
            <a:off x="2914200" y="3212640"/>
            <a:ext cx="73080" cy="50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9"/>
          <p:cNvSpPr/>
          <p:nvPr/>
        </p:nvSpPr>
        <p:spPr>
          <a:xfrm flipV="1">
            <a:off x="4140360" y="3141720"/>
            <a:ext cx="7272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0"/>
          <p:cNvSpPr/>
          <p:nvPr/>
        </p:nvSpPr>
        <p:spPr>
          <a:xfrm flipV="1">
            <a:off x="6227640" y="3213000"/>
            <a:ext cx="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1"/>
          <p:cNvSpPr/>
          <p:nvPr/>
        </p:nvSpPr>
        <p:spPr>
          <a:xfrm flipH="1" flipV="1">
            <a:off x="8604360" y="3284640"/>
            <a:ext cx="7128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0" name="Object 12"/>
          <p:cNvGraphicFramePr/>
          <p:nvPr/>
        </p:nvGraphicFramePr>
        <p:xfrm>
          <a:off x="642960" y="4572000"/>
          <a:ext cx="2879640" cy="17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60" y="4572000"/>
                    <a:ext cx="2879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5"/>
          <p:cNvSpPr/>
          <p:nvPr/>
        </p:nvSpPr>
        <p:spPr>
          <a:xfrm>
            <a:off x="785880" y="1143000"/>
            <a:ext cx="34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дридентатни лиг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642960" y="39290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адентатни лиг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"/>
          <p:cNvSpPr/>
          <p:nvPr/>
        </p:nvSpPr>
        <p:spPr>
          <a:xfrm>
            <a:off x="1285920" y="6215040"/>
            <a:ext cx="7215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и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N,N’,N’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сирћетн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Object 7"/>
          <p:cNvGraphicFramePr/>
          <p:nvPr/>
        </p:nvGraphicFramePr>
        <p:xfrm>
          <a:off x="3286080" y="1571760"/>
          <a:ext cx="2282760" cy="22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1571760"/>
                    <a:ext cx="2282760" cy="22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Object 3"/>
          <p:cNvGraphicFramePr/>
          <p:nvPr/>
        </p:nvGraphicFramePr>
        <p:xfrm>
          <a:off x="2571840" y="4429080"/>
          <a:ext cx="493560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4429080"/>
                    <a:ext cx="49356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4"/>
          <p:cNvSpPr/>
          <p:nvPr/>
        </p:nvSpPr>
        <p:spPr>
          <a:xfrm>
            <a:off x="785880" y="3714840"/>
            <a:ext cx="7429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чешћ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у парни координациони броје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, 4, 6,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u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g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5"/>
          <p:cNvSpPr/>
          <p:nvPr/>
        </p:nvSpPr>
        <p:spPr>
          <a:xfrm>
            <a:off x="325440" y="2643120"/>
            <a:ext cx="881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и број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донор атома везаних за метални јо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6"/>
          <p:cNvSpPr/>
          <p:nvPr/>
        </p:nvSpPr>
        <p:spPr>
          <a:xfrm>
            <a:off x="5165640" y="2316240"/>
            <a:ext cx="297000" cy="284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2786040" y="1928880"/>
            <a:ext cx="3000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5"/>
          <p:cNvSpPr/>
          <p:nvPr/>
        </p:nvSpPr>
        <p:spPr>
          <a:xfrm>
            <a:off x="1285920" y="1071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комплекса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ординациони бро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Corporate Edition</cp:lastModifiedBy>
  <dcterms:modified xsi:type="dcterms:W3CDTF">2017-09-27T13:48:33Z</dcterms:modified>
  <cp:revision>490</cp:revision>
  <dc:subject/>
  <dc:title>Slide 1</dc:title>
</cp:coreProperties>
</file>